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5F8-E442-48EB-8EA3-585250ED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05C-4FF8-41E4-83D7-44AB8081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B7F-C226-4AB8-9FFA-5B37F986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014-EEF9-4AFB-8227-2E35F1B5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315-C8AB-4244-AE84-29265E7B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EB6-AF1F-4010-BF0D-013DF2EF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9AC-7038-4D95-AE92-453AD69B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BEA-F893-4C30-9FAB-C2028FC3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DD4-6C4F-4256-8660-60942B83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23B-2CC8-48E8-AFE0-79BBF5A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7C5-F2CD-4A82-BAF8-66C8AA35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CEB-C04F-4182-8217-C2CE093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3988-C71E-4C71-937B-2DB123576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nonce-t-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, -et, -ez, -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, -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é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hoisissez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rossiss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vous aimez danser le ballet après un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’il préfère la glace ou le thé glac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é aime le café avec de la crè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s, est-ce que tu aimes voyager en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final conso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âl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prenez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jett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lan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è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êlé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49:55Z</dcterms:created>
  <dc:creator>mlcrossan</dc:creator>
  <dc:description/>
  <dc:language>en-US</dc:language>
  <cp:lastModifiedBy>mlcrossan</cp:lastModifiedBy>
  <dcterms:modified xsi:type="dcterms:W3CDTF">2009-08-30T03:20:56Z</dcterms:modified>
  <cp:revision>2</cp:revision>
  <dc:subject/>
  <dc:title>Comment se prononce-t-il?</dc:title>
</cp:coreProperties>
</file>