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526-039C-4B34-BA31-7A5E65B2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A81-9A8E-4DAC-89A7-EAB48FA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013-269E-4956-A066-D3999F81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155-2135-4802-BA29-F7B6D483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BBB-AA76-43CF-8039-BF692D4F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382-34C7-4D06-B920-82C5D57C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E66-B62C-4443-9CC8-0C2D3227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FDE-8A63-40B4-8BE8-C3A07C02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798-3D51-4C1D-994B-D03AE414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769-588E-4954-8BF6-0C6635E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C86-2F7E-4C95-B340-56DFD300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520-2569-473D-BD34-DB7B364D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430-87E1-4404-B887-2C0E2BA5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nonce-t-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, -et, -ez, -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, -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lacé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hoisissez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rossiss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vous aimez danser le ballet après un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’il préfère la glace ou le thé glac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é aime le café avec de la crè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s, est-ce que tu aimes voyager en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final conso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hâl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prenez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jett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lance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è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êlé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lace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49:55Z</dcterms:created>
  <dc:creator>mlcrossan</dc:creator>
  <dc:description/>
  <dc:language>en-US</dc:language>
  <cp:lastModifiedBy>mlcrossan</cp:lastModifiedBy>
  <dcterms:modified xsi:type="dcterms:W3CDTF">2009-08-30T03:20:56Z</dcterms:modified>
  <cp:revision>2</cp:revision>
  <dc:subject/>
  <dc:title>Comment se prononce-t-il?</dc:title>
</cp:coreProperties>
</file>