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9AF-66C7-4CCC-A8FA-57C26106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9C8-6651-4C48-9D8D-F5EFAC9B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7E4-B131-4034-A1F5-9206BDA1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771-BC1F-45D4-9CF3-8BE78317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E8CF-5DAA-422A-9A39-C2D7271C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1A4-26CD-4797-8697-EC0C03AB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6C7-C7C7-4D0F-B363-039AF369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F12-957D-438D-872B-E3BC998D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994-0820-4FC2-94DC-39F31C94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865-454E-4961-9A27-F6B0323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588-CDCD-495C-9ACD-76D2E3F1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ED6-3D58-458C-8A8A-D61CDDE8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750A-A4D7-4C1B-85C0-F4DED24C4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se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ononce-t-i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r, -et, -ez, -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, -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lacé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choisissez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grossisse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e vous aimez danser le ballet après un caf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’il préfère la glace ou le thé glac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é aime le café avec de la crè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s, est-ce que tu aimes voyager en Fr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final conso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ou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châle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prenez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jett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lances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èl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êlée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laces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02:49:55Z</dcterms:created>
  <dc:creator>mlcrossan</dc:creator>
  <dc:description/>
  <dc:language>en-US</dc:language>
  <cp:lastModifiedBy>mlcrossan</cp:lastModifiedBy>
  <dcterms:modified xsi:type="dcterms:W3CDTF">2009-08-30T03:20:56Z</dcterms:modified>
  <cp:revision>2</cp:revision>
  <dc:subject/>
  <dc:title>Comment se prononce-t-il?</dc:title>
</cp:coreProperties>
</file>