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2B2-C257-41B6-A61B-8DF7A48F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80E-745E-4954-894F-00218844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F44-4296-4953-8805-3B801D48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59C-D15E-495F-BB5D-4FA17FF3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214-7F43-4C5A-9F00-F81BBEEE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F59-488F-46E3-B70B-F1593410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BF2-B697-4F55-8EC9-735F3742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3E0-5C09-43A8-A053-A261559D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204-C48C-48DC-8CE5-CE6E81B3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C74-E394-4F6F-99B8-7852BCDA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155-FC4C-40CC-81CD-DDF6B421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CD4-EEBB-49CB-8F9F-9FD41940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B7C7-181C-40FF-BC37-CA4958CD9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schools.clipart.com/search/close-up?oid=3784257&amp;q=tall%20person&amp;s=1&amp;a=c&amp;cid=&amp;k_mode=all&amp;k_exc=&amp;q_jpeg=1&amp;q_gif=1&amp;q_color=1&amp;q_bw=1&amp;q_eps=1&amp;q_wmf=1&amp;q_psd=1&amp;q_png=1&amp;date=&amp;pubid=&amp;isadv=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schools.clipart.com/search/close-up?oid=3941600&amp;q=old%20%2Bbike&amp;s=1&amp;a=c&amp;cid=&amp;k_mode=all&amp;k_exc=&amp;q_jpeg=1&amp;q_gif=1&amp;q_color=1&amp;q_bw=1&amp;q_eps=1&amp;q_wmf=1&amp;q_psd=1&amp;q_png=1&amp;date=&amp;pubid=&amp;isadv=1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schools.clipart.com/search/close-up?oid=3941683&amp;q=old%20%2Bbike&amp;s=1&amp;a=c&amp;cid=&amp;k_mode=all&amp;k_exc=&amp;q_jpeg=1&amp;q_gif=1&amp;q_color=1&amp;q_bw=1&amp;q_eps=1&amp;q_wmf=1&amp;q_psd=1&amp;q_png=1&amp;date=&amp;pubid=&amp;isadv=1" TargetMode="External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schools.clipart.com/search/close-up?oid=3784257&amp;q=tall%20person&amp;s=1&amp;a=c&amp;cid=&amp;k_mode=all&amp;k_exc=&amp;q_jpeg=1&amp;q_gif=1&amp;q_color=1&amp;q_bw=1&amp;q_eps=1&amp;q_wmf=1&amp;q_psd=1&amp;q_png=1&amp;date=&amp;pubid=&amp;isadv=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schools.clipart.com/search/close-up?oid=3941600&amp;q=old%20%2Bbike&amp;s=1&amp;a=c&amp;cid=&amp;k_mode=all&amp;k_exc=&amp;q_jpeg=1&amp;q_gif=1&amp;q_color=1&amp;q_bw=1&amp;q_eps=1&amp;q_wmf=1&amp;q_psd=1&amp;q_png=1&amp;date=&amp;pubid=&amp;isadv=1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schools.clipart.com/search/close-up?oid=3941683&amp;q=old%20%2Bbike&amp;s=1&amp;a=c&amp;cid=&amp;k_mode=all&amp;k_exc=&amp;q_jpeg=1&amp;q_gif=1&amp;q_color=1&amp;q_bw=1&amp;q_eps=1&amp;q_wmf=1&amp;q_psd=1&amp;q_png=1&amp;date=&amp;pubid=&amp;isadv=1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schools.clipart.com/search/close-up?oid=3981038&amp;q=monster&amp;s=1&amp;a=c&amp;cid=&amp;k_mode=all&amp;k_exc=&amp;q_jpeg=1&amp;q_gif=1&amp;q_color=1&amp;q_bw=1&amp;q_eps=1&amp;q_wmf=1&amp;q_psd=1&amp;q_png=1&amp;date=&amp;pubid=&amp;isadv=1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schools.clipart.com/search/close-up?oid=3941600&amp;q=old%20%2Bbike&amp;s=1&amp;a=c&amp;cid=&amp;k_mode=all&amp;k_exc=&amp;q_jpeg=1&amp;q_gif=1&amp;q_color=1&amp;q_bw=1&amp;q_eps=1&amp;q_wmf=1&amp;q_psd=1&amp;q_png=1&amp;date=&amp;pubid=&amp;isadv=1" TargetMode="External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990720" cy="957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1027080" cy="1352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1800" y="533520"/>
            <a:ext cx="108900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0400" y="5334120"/>
            <a:ext cx="861840" cy="113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5410080"/>
            <a:ext cx="63324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514600"/>
            <a:ext cx="55260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24080" y="3733920"/>
            <a:ext cx="914400" cy="812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1"/>
          <a:stretch/>
        </p:blipFill>
        <p:spPr>
          <a:xfrm>
            <a:off x="5410080" y="533520"/>
            <a:ext cx="62892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3520" y="533520"/>
          <a:ext cx="8305560" cy="584352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120"/>
                <a:gridCol w="2076480"/>
              </a:tblGrid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Il /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Le monstre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ous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Elles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on grand-père /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Tu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Tu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Nous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5257800" y="2209680"/>
            <a:ext cx="552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990720" cy="957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102708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971800" y="533520"/>
            <a:ext cx="108900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200400" y="5334120"/>
            <a:ext cx="86184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5410080"/>
            <a:ext cx="633240" cy="99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514600"/>
            <a:ext cx="5526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24080" y="3733920"/>
            <a:ext cx="914400" cy="812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410080" y="533520"/>
            <a:ext cx="62892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33520" y="533520"/>
          <a:ext cx="8305560" cy="588780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120"/>
                <a:gridCol w="20764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Il est trist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Le monstre est moch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ous êtes intellig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Elles sont âgé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on grand-père est âgé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Tu es bêt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Tu es cont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 Nous sommes gran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257800" y="2209680"/>
            <a:ext cx="552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1:14:29Z</dcterms:created>
  <dc:creator>mlcrossan</dc:creator>
  <dc:description/>
  <dc:language>en-US</dc:language>
  <cp:lastModifiedBy>mlcrossan</cp:lastModifiedBy>
  <dcterms:modified xsi:type="dcterms:W3CDTF">2010-02-03T19:45:57Z</dcterms:modified>
  <cp:revision>4</cp:revision>
  <dc:subject/>
  <dc:title>Slide 1</dc:title>
</cp:coreProperties>
</file>