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F20-41AB-4538-A3A0-E455F973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CDF-CED8-43E8-BDCF-F4365644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82F-7726-4E90-A6E4-52F51D15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962-6FB6-4D92-BCED-E30C2BF0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EB4-F3A4-412B-A245-7E4D8C16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AF2-0C8D-4BF7-84C0-EE557B1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A45-1F54-4BE0-8D91-A10DA9CF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27E-BFF4-4470-8D23-64FF206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89E-B9DE-426A-9E87-0DB27526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CF2C-A4E5-4A12-9E03-E6989CA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516-3A16-4D7A-B94C-D92135D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C04-1DAE-4C77-BF2C-E6CBFCD5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335-3E19-4EAF-BB2E-98B6544A6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schools.clipart.com/search/close-up?oid=3784257&amp;q=tall%20person&amp;s=1&amp;a=c&amp;cid=&amp;k_mode=all&amp;k_exc=&amp;q_jpeg=1&amp;q_gif=1&amp;q_color=1&amp;q_bw=1&amp;q_eps=1&amp;q_wmf=1&amp;q_psd=1&amp;q_png=1&amp;date=&amp;pubid=&amp;isadv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schools.clipart.com/search/close-up?oid=3941683&amp;q=old%20%2Bbike&amp;s=1&amp;a=c&amp;cid=&amp;k_mode=all&amp;k_exc=&amp;q_jpeg=1&amp;q_gif=1&amp;q_color=1&amp;q_bw=1&amp;q_eps=1&amp;q_wmf=1&amp;q_psd=1&amp;q_png=1&amp;date=&amp;pubid=&amp;isadv=1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schools.clipart.com/search/close-up?oid=3784257&amp;q=tall%20person&amp;s=1&amp;a=c&amp;cid=&amp;k_mode=all&amp;k_exc=&amp;q_jpeg=1&amp;q_gif=1&amp;q_color=1&amp;q_bw=1&amp;q_eps=1&amp;q_wmf=1&amp;q_psd=1&amp;q_png=1&amp;date=&amp;pubid=&amp;isadv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schools.clipart.com/search/close-up?oid=3941683&amp;q=old%20%2Bbike&amp;s=1&amp;a=c&amp;cid=&amp;k_mode=all&amp;k_exc=&amp;q_jpeg=1&amp;q_gif=1&amp;q_color=1&amp;q_bw=1&amp;q_eps=1&amp;q_wmf=1&amp;q_psd=1&amp;q_png=1&amp;date=&amp;pubid=&amp;isadv=1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schools.clipart.com/search/close-up?oid=3981038&amp;q=monster&amp;s=1&amp;a=c&amp;cid=&amp;k_mode=all&amp;k_exc=&amp;q_jpeg=1&amp;q_gif=1&amp;q_color=1&amp;q_bw=1&amp;q_eps=1&amp;q_wmf=1&amp;q_psd=1&amp;q_png=1&amp;date=&amp;pubid=&amp;isadv=1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1027080" cy="1352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1800" y="533520"/>
            <a:ext cx="108900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861840" cy="113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5410080"/>
            <a:ext cx="63324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14600"/>
            <a:ext cx="5526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3733920"/>
            <a:ext cx="914400" cy="81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1"/>
          <a:stretch/>
        </p:blipFill>
        <p:spPr>
          <a:xfrm>
            <a:off x="5410080" y="533520"/>
            <a:ext cx="62892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3520" y="533520"/>
          <a:ext cx="8305560" cy="584352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l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Le monstre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u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lle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on grand-père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Tu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u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Nou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5257800" y="2209680"/>
            <a:ext cx="552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102708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533520"/>
            <a:ext cx="10890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86184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5410080"/>
            <a:ext cx="63324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14600"/>
            <a:ext cx="5526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3733920"/>
            <a:ext cx="914400" cy="81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410080" y="533520"/>
            <a:ext cx="62892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33520" y="533520"/>
          <a:ext cx="8305560" cy="58878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l est tris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Le monstre est moch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us êtes intellig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lles sont âgé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on grand-père est âgé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Tu es bê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u es cont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Nous sommes gran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57800" y="2209680"/>
            <a:ext cx="552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1:14:29Z</dcterms:created>
  <dc:creator>mlcrossan</dc:creator>
  <dc:description/>
  <dc:language>en-US</dc:language>
  <cp:lastModifiedBy>mlcrossan</cp:lastModifiedBy>
  <dcterms:modified xsi:type="dcterms:W3CDTF">2010-02-03T19:45:57Z</dcterms:modified>
  <cp:revision>4</cp:revision>
  <dc:subject/>
  <dc:title>Slide 1</dc:title>
</cp:coreProperties>
</file>