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C6C-CA0D-42B4-930E-6F462A68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F25-91CB-46DE-84E6-73C0BCA8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415-3174-4E7A-8E5D-DCD2EA98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DEA-183A-49FA-AB99-7FA44349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311-0EFF-4249-81A6-7BD72CFB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352-8389-466D-A01A-7AE18D40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663-80FF-4BED-9FC4-62FED71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F8D-5E5B-43D6-88D5-A8B9834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BAB-013F-47E8-85AA-B7256684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06C-1C42-4BBD-A568-F62F71DD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3CA3-5DB5-4E08-A280-8F872F9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475-A59D-497E-83E3-906C8BA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E1B-3C7A-409E-905D-85AFD6B83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schools.clipart.com/search/close-up?oid=3784257&amp;q=tall%20person&amp;s=1&amp;a=c&amp;cid=&amp;k_mode=all&amp;k_exc=&amp;q_jpeg=1&amp;q_gif=1&amp;q_color=1&amp;q_bw=1&amp;q_eps=1&amp;q_wmf=1&amp;q_psd=1&amp;q_png=1&amp;date=&amp;pubid=&amp;isadv=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schools.clipart.com/search/close-up?oid=3941683&amp;q=old%20%2Bbike&amp;s=1&amp;a=c&amp;cid=&amp;k_mode=all&amp;k_exc=&amp;q_jpeg=1&amp;q_gif=1&amp;q_color=1&amp;q_bw=1&amp;q_eps=1&amp;q_wmf=1&amp;q_psd=1&amp;q_png=1&amp;date=&amp;pubid=&amp;isadv=1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schools.clipart.com/search/close-up?oid=3981038&amp;q=monster&amp;s=1&amp;a=c&amp;cid=&amp;k_mode=all&amp;k_exc=&amp;q_jpeg=1&amp;q_gif=1&amp;q_color=1&amp;q_bw=1&amp;q_eps=1&amp;q_wmf=1&amp;q_psd=1&amp;q_png=1&amp;date=&amp;pubid=&amp;isadv=1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schools.clipart.com/search/close-up?oid=3941600&amp;q=old%20%2Bbike&amp;s=1&amp;a=c&amp;cid=&amp;k_mode=all&amp;k_exc=&amp;q_jpeg=1&amp;q_gif=1&amp;q_color=1&amp;q_bw=1&amp;q_eps=1&amp;q_wmf=1&amp;q_psd=1&amp;q_png=1&amp;date=&amp;pubid=&amp;isadv=1" TargetMode="External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1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533520" y="533520"/>
          <a:ext cx="8305560" cy="58435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/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Nous 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102708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533520"/>
            <a:ext cx="108900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200400" y="5334120"/>
            <a:ext cx="861840" cy="113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5410080"/>
            <a:ext cx="633240" cy="990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5000" y="2514600"/>
            <a:ext cx="5526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24080" y="3733920"/>
            <a:ext cx="914400" cy="81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10080" y="533520"/>
            <a:ext cx="62892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533520" y="533520"/>
          <a:ext cx="8305560" cy="58878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120"/>
                <a:gridCol w="20764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Il est tris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Le monstre est moch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ous êtes intellig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Elles sont âgé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on grand-père est âgé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 Tu es bêt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Tu es cont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 Nous sommes grand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57800" y="2209680"/>
            <a:ext cx="552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1:14:29Z</dcterms:created>
  <dc:creator>mlcrossan</dc:creator>
  <dc:description/>
  <dc:language>en-US</dc:language>
  <cp:lastModifiedBy>mlcrossan</cp:lastModifiedBy>
  <dcterms:modified xsi:type="dcterms:W3CDTF">2010-02-03T19:45:57Z</dcterms:modified>
  <cp:revision>4</cp:revision>
  <dc:subject/>
  <dc:title>Slide 1</dc:title>
</cp:coreProperties>
</file>