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2400-1941-4A70-B2C1-B06D1DC61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1C6B-E9F8-4A87-B8BB-E8576D8FD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ADF6-2496-42B4-8EF3-4CACB4B44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A93E-FBE3-49EF-B16D-62F5AFE25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0B19-7CD2-44D1-B992-15F115648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6554-7C3B-4F6D-B398-7B757E4C2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1757-0FBD-42F3-A3C8-298687D26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620D-9DA4-4085-99CD-6263D5839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9E46-3DE0-4938-818C-A4CE068F4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6F3C-9434-4391-B190-E79F8A1C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CB4E-CE90-4730-9C07-DF940155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8507-AD2B-4B75-908A-FFBB820E3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8F026-1E35-4147-80CE-210049B098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0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0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6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6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9.jpeg"/><Relationship Id="rId5" Type="http://schemas.openxmlformats.org/officeDocument/2006/relationships/image" Target="../media/image7.jpeg"/><Relationship Id="rId6" Type="http://schemas.openxmlformats.org/officeDocument/2006/relationships/image" Target="../media/image6.jpeg"/><Relationship Id="rId7" Type="http://schemas.openxmlformats.org/officeDocument/2006/relationships/image" Target="../media/image8.jpeg"/><Relationship Id="rId8" Type="http://schemas.openxmlformats.org/officeDocument/2006/relationships/image" Target="../media/image13.jpeg"/><Relationship Id="rId9" Type="http://schemas.openxmlformats.org/officeDocument/2006/relationships/image" Target="../media/image12.jpeg"/><Relationship Id="rId10" Type="http://schemas.openxmlformats.org/officeDocument/2006/relationships/image" Target="../media/image11.jpeg"/><Relationship Id="rId11" Type="http://schemas.openxmlformats.org/officeDocument/2006/relationships/image" Target="../media/image10.jpeg"/><Relationship Id="rId12" Type="http://schemas.openxmlformats.org/officeDocument/2006/relationships/image" Target="../media/image19.jpeg"/><Relationship Id="rId13" Type="http://schemas.openxmlformats.org/officeDocument/2006/relationships/image" Target="../media/image14.jpeg"/><Relationship Id="rId14" Type="http://schemas.openxmlformats.org/officeDocument/2006/relationships/image" Target="../media/image18.jpeg"/><Relationship Id="rId15" Type="http://schemas.openxmlformats.org/officeDocument/2006/relationships/image" Target="../media/image16.jpeg"/><Relationship Id="rId16" Type="http://schemas.openxmlformats.org/officeDocument/2006/relationships/image" Target="../media/image3.jpeg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001000" y="380880"/>
            <a:ext cx="782640" cy="10670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62120" y="5181480"/>
            <a:ext cx="1285920" cy="1043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553080" y="4952880"/>
            <a:ext cx="1981440" cy="1374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609480" y="304920"/>
            <a:ext cx="1524240" cy="13460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685800" y="3505320"/>
            <a:ext cx="1447920" cy="1447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7010280" y="3276720"/>
            <a:ext cx="1752840" cy="1552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2666880" y="5105520"/>
            <a:ext cx="1447920" cy="1257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4495680" y="5029200"/>
            <a:ext cx="1600200" cy="1366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2743200" y="3505320"/>
            <a:ext cx="1149480" cy="1371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4572000" y="3352680"/>
            <a:ext cx="1905120" cy="12574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914400" y="1828800"/>
            <a:ext cx="1019160" cy="1265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>
            <a:off x="7162920" y="1752480"/>
            <a:ext cx="1676160" cy="1284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3"/>
          <a:stretch/>
        </p:blipFill>
        <p:spPr>
          <a:xfrm>
            <a:off x="2743200" y="1828800"/>
            <a:ext cx="1141560" cy="1200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4"/>
          <a:stretch/>
        </p:blipFill>
        <p:spPr>
          <a:xfrm>
            <a:off x="4419720" y="1828800"/>
            <a:ext cx="1904760" cy="12463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5"/>
          <a:stretch/>
        </p:blipFill>
        <p:spPr>
          <a:xfrm>
            <a:off x="2743200" y="380880"/>
            <a:ext cx="1015920" cy="1143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6"/>
          <a:stretch/>
        </p:blipFill>
        <p:spPr>
          <a:xfrm>
            <a:off x="4876920" y="380880"/>
            <a:ext cx="137160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restaur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1911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s vont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a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staur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426744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centre-commer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90560" y="16002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e va ______ centre-commerc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57200" y="3129120"/>
            <a:ext cx="4724280" cy="30906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791320" y="3048120"/>
            <a:ext cx="22860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France, most stores are closed le dimanch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do you think that i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centre-commer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90560" y="16002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e va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a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entre-commerc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57200" y="3129120"/>
            <a:ext cx="4724280" cy="30906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181480" y="2971800"/>
            <a:ext cx="289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France, most stores are closed le dimanch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do you think that i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burea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us allez ____ burea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208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burea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us allez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a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urea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208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pos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 vas _____ pos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57200" y="3962520"/>
            <a:ext cx="3333600" cy="22003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57200" y="1219320"/>
            <a:ext cx="244620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pos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 vas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à l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s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57200" y="3962520"/>
            <a:ext cx="3333600" cy="22003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457200" y="1219320"/>
            <a:ext cx="244620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’hôpi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 personnes malades vont ____ hôpi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648320" y="2997360"/>
            <a:ext cx="4095720" cy="31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’hôpi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 personnes malades vont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à l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ôpi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648320" y="2997360"/>
            <a:ext cx="4095720" cy="31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pharma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ur trouver des médicaments (de l’asprine, etc)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va ______ pharmac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914400" y="1752480"/>
            <a:ext cx="1816200" cy="22561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762120" y="4267080"/>
            <a:ext cx="4190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’adore </a:t>
            </a:r>
            <a:br>
              <a:rPr sz="4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 glace au chocola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 glace à la vanil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think accounts for the difference betwee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à l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your answer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scribe the ice cream flavors that would go with the following ingred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 citr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 frambois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 caf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 noix de coc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la cannell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 ment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pharma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ur trouver des médicaments (de l’asprine, etc)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va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à l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harmac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914400" y="1752480"/>
            <a:ext cx="1816200" cy="22561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62120" y="4267080"/>
            <a:ext cx="4190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bibliothè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us allez _____ bibliothèque pour étudi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04920" y="2057400"/>
            <a:ext cx="4492440" cy="29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bibliothè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us allez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à l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bliothèque pour étudi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04920" y="2057400"/>
            <a:ext cx="4492440" cy="29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théât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1424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acteurs vont _____ théât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57200" y="2743200"/>
            <a:ext cx="4038480" cy="34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théât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1424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acteurs vont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a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éât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57200" y="2743200"/>
            <a:ext cx="4038480" cy="34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musé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’enfant va ____ musé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094360" y="2057400"/>
            <a:ext cx="35733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musé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’enfant va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a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usé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5094360" y="2057400"/>
            <a:ext cx="35733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’hôt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1424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vacances, je vais ____ hôt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304920" y="2743200"/>
            <a:ext cx="411480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’hôt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51424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vacances, je vais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à l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ôt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304920" y="2743200"/>
            <a:ext cx="411480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taba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Français vont ____ taba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6781680" y="2209680"/>
            <a:ext cx="1752840" cy="15526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5181480" y="4038480"/>
            <a:ext cx="33339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 glace au citr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 glace à la frambois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 glace au caf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 glace au noix de coc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 glace à la cannell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 glace à la ment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taba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Français vont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a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aba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6781680" y="2209680"/>
            <a:ext cx="1752840" cy="15526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5181480" y="4038480"/>
            <a:ext cx="33339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ciné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76720" y="160020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ados vont ____ cinéma pour regarder les fil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57200" y="2895480"/>
            <a:ext cx="333360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ciné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276720" y="160020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ados vont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a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inéma pour regarder les fil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57200" y="2895480"/>
            <a:ext cx="333360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par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famille va _____ par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533520" y="2633760"/>
            <a:ext cx="5029200" cy="34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par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famille va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a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r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33520" y="2633760"/>
            <a:ext cx="5029200" cy="34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st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 athlètes vont _____ stad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257800" y="3200400"/>
            <a:ext cx="333360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st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 athlètes vont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a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d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257800" y="3200400"/>
            <a:ext cx="333360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’aéro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s allons ______ aéro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457200" y="2362320"/>
            <a:ext cx="464832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’aéro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s allons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à l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éro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457200" y="2362320"/>
            <a:ext cx="464832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g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 Français vont ______ g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352680" y="2438280"/>
            <a:ext cx="27417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 vill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g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 Français vont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à l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352680" y="2438280"/>
            <a:ext cx="27417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er - 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457200" y="1600200"/>
          <a:ext cx="8229600" cy="45608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50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er – 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to 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457200" y="1600200"/>
          <a:ext cx="8229600" cy="45608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50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  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va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us 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ll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 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v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us 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lle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e 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v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es 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vo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égli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a synagog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mosqué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057400" cy="33339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3048120" y="1600200"/>
            <a:ext cx="2361960" cy="19969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6324480" y="3733920"/>
            <a:ext cx="247680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ur trouver des livres, où vas-t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ur regarder “Night at the Museum II”, où vas-t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ur avoir des Euros, où vas-t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ur faire un pique-nique, où vas t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ur acheter un magazine, où vas-t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ur parler avec un docteur, où vas-t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ur acheter des timbres, où vas-t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ur prier, où vont les Chrétie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ur prier, où vont les Juif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ur prier, où vont les Musulma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ur regarder les peintures de Monet et de Van Gogh, où vas-t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jet, Aller, plac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ur prier – 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ur manger un steak-frites – Les Franç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ur jouer –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ur trouver un train – N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ur regarder un match de foot – 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ur acheter de l’aspirine – Vo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You have a very busy day ahead of you.  Write down (in complete sentences) 8 different places that you need to 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 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457200" y="228600"/>
          <a:ext cx="8229600" cy="58971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4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839520" cy="9446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7620120" y="4876920"/>
            <a:ext cx="839520" cy="11430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5562720" y="5181480"/>
            <a:ext cx="990360" cy="8748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4"/>
          <a:stretch/>
        </p:blipFill>
        <p:spPr>
          <a:xfrm>
            <a:off x="5638680" y="2057400"/>
            <a:ext cx="893880" cy="10666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5"/>
          <a:stretch/>
        </p:blipFill>
        <p:spPr>
          <a:xfrm>
            <a:off x="7467480" y="2133720"/>
            <a:ext cx="1143000" cy="9921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6"/>
          <a:stretch/>
        </p:blipFill>
        <p:spPr>
          <a:xfrm>
            <a:off x="1371600" y="3733920"/>
            <a:ext cx="914400" cy="80964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7"/>
          <a:stretch/>
        </p:blipFill>
        <p:spPr>
          <a:xfrm>
            <a:off x="3352680" y="3657600"/>
            <a:ext cx="1143000" cy="97632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8"/>
          <a:stretch/>
        </p:blipFill>
        <p:spPr>
          <a:xfrm>
            <a:off x="3429000" y="2133720"/>
            <a:ext cx="923760" cy="9712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9"/>
          <a:stretch/>
        </p:blipFill>
        <p:spPr>
          <a:xfrm>
            <a:off x="5334120" y="3733920"/>
            <a:ext cx="1143000" cy="8744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10"/>
          <a:stretch/>
        </p:blipFill>
        <p:spPr>
          <a:xfrm>
            <a:off x="7772400" y="3657600"/>
            <a:ext cx="711360" cy="8841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11"/>
          <a:stretch/>
        </p:blipFill>
        <p:spPr>
          <a:xfrm>
            <a:off x="838080" y="5181480"/>
            <a:ext cx="1371600" cy="90504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12"/>
          <a:stretch/>
        </p:blipFill>
        <p:spPr>
          <a:xfrm>
            <a:off x="3581280" y="5181480"/>
            <a:ext cx="776520" cy="8384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13"/>
          <a:stretch/>
        </p:blipFill>
        <p:spPr>
          <a:xfrm>
            <a:off x="1143000" y="2209680"/>
            <a:ext cx="1219320" cy="7970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14"/>
          <a:stretch/>
        </p:blipFill>
        <p:spPr>
          <a:xfrm>
            <a:off x="3429000" y="838080"/>
            <a:ext cx="838080" cy="7398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15"/>
          <a:stretch/>
        </p:blipFill>
        <p:spPr>
          <a:xfrm>
            <a:off x="5638680" y="762120"/>
            <a:ext cx="914400" cy="8906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16"/>
          <a:stretch/>
        </p:blipFill>
        <p:spPr>
          <a:xfrm>
            <a:off x="7391520" y="861840"/>
            <a:ext cx="1066680" cy="7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ban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26672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 vais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____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anq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04920" y="1447920"/>
            <a:ext cx="4157640" cy="46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ban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26672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 vais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à l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anq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04920" y="1447920"/>
            <a:ext cx="4157640" cy="46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caf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657600" y="160020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us allons ____ café pour avoir un chocolat chau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57200" y="2514600"/>
            <a:ext cx="4264200" cy="37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caf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657600" y="160020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us allons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a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fé pour avoir un chocolat chau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57200" y="2514600"/>
            <a:ext cx="4264200" cy="37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restaur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1911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s vont ____ restaur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426744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7T01:04:42Z</dcterms:created>
  <dc:creator>mlcrossan</dc:creator>
  <dc:description/>
  <dc:language>en-US</dc:language>
  <cp:lastModifiedBy>mlcrossan</cp:lastModifiedBy>
  <dcterms:modified xsi:type="dcterms:W3CDTF">2009-09-12T02:38:50Z</dcterms:modified>
  <cp:revision>6</cp:revision>
  <dc:subject/>
  <dc:title>J’adore  la glace au chocolat  la glace à la vanille</dc:title>
</cp:coreProperties>
</file>