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2A5-D96C-4E1A-B5BB-0034A67B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041A-6432-4854-A22F-5EDF90EA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4B6-9D1F-430A-829B-33C24005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CAE-690E-42E0-BD36-70ABCBB3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4CC-04C3-4930-BB53-7C31E922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C64-8A3B-453D-B9A8-4FEFA635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D079-4561-4242-9D1D-3E77C78E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39E-14D7-44B9-AF2E-2C925B6A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322-56BD-45D4-93C4-02C2161C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0A8-5409-418A-AD2A-28944921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F70-9E92-41B9-B371-5D6629AD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397A-501E-40CA-8FEC-118321FF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F4DC-6CF2-4A2F-9941-03D1CE233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9.jpeg"/><Relationship Id="rId5" Type="http://schemas.openxmlformats.org/officeDocument/2006/relationships/image" Target="../media/image7.jpeg"/><Relationship Id="rId6" Type="http://schemas.openxmlformats.org/officeDocument/2006/relationships/image" Target="../media/image6.jpeg"/><Relationship Id="rId7" Type="http://schemas.openxmlformats.org/officeDocument/2006/relationships/image" Target="../media/image8.jpeg"/><Relationship Id="rId8" Type="http://schemas.openxmlformats.org/officeDocument/2006/relationships/image" Target="../media/image13.jpeg"/><Relationship Id="rId9" Type="http://schemas.openxmlformats.org/officeDocument/2006/relationships/image" Target="../media/image12.jpeg"/><Relationship Id="rId10" Type="http://schemas.openxmlformats.org/officeDocument/2006/relationships/image" Target="../media/image11.jpeg"/><Relationship Id="rId11" Type="http://schemas.openxmlformats.org/officeDocument/2006/relationships/image" Target="../media/image10.jpeg"/><Relationship Id="rId12" Type="http://schemas.openxmlformats.org/officeDocument/2006/relationships/image" Target="../media/image19.jpeg"/><Relationship Id="rId13" Type="http://schemas.openxmlformats.org/officeDocument/2006/relationships/image" Target="../media/image14.jpeg"/><Relationship Id="rId14" Type="http://schemas.openxmlformats.org/officeDocument/2006/relationships/image" Target="../media/image18.jpeg"/><Relationship Id="rId15" Type="http://schemas.openxmlformats.org/officeDocument/2006/relationships/image" Target="../media/image16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782640" cy="1067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1285920" cy="1043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553080" y="4952880"/>
            <a:ext cx="1981440" cy="137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9480" y="304920"/>
            <a:ext cx="1524240" cy="134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85800" y="35053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010280" y="3276720"/>
            <a:ext cx="1752840" cy="1552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666880" y="5105520"/>
            <a:ext cx="1447920" cy="1257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495680" y="5029200"/>
            <a:ext cx="1600200" cy="136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743200" y="3505320"/>
            <a:ext cx="114948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572000" y="3352680"/>
            <a:ext cx="1905120" cy="1257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914400" y="1828800"/>
            <a:ext cx="1019160" cy="1265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162920" y="1752480"/>
            <a:ext cx="1676160" cy="128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2743200" y="1828800"/>
            <a:ext cx="1141560" cy="1200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4419720" y="1828800"/>
            <a:ext cx="1904760" cy="124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2743200" y="380880"/>
            <a:ext cx="10159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4876920" y="380880"/>
            <a:ext cx="13716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restau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vont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tau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entre-commer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va ______ centre-commer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3129120"/>
            <a:ext cx="4724280" cy="3090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91320" y="3048120"/>
            <a:ext cx="2286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rance, most stores are closed le diman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you think that 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entre-commer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va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re-commer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3129120"/>
            <a:ext cx="4724280" cy="3090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81480" y="29718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rance, most stores are closed le diman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you think that 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ur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llez ____ bur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20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ur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llez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r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20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o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vas _____ p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3333600" cy="2200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1219320"/>
            <a:ext cx="2446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o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va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à 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3333600" cy="2200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7200" y="1219320"/>
            <a:ext cx="2446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ô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personnes malades vont ____ hô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2997360"/>
            <a:ext cx="40957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ô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personnes malades vont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à l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ô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2997360"/>
            <a:ext cx="40957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harma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trouver des médicaments (de l’asprine, etc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va ______ pharma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1816200" cy="2256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2120" y="426708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’adore </a:t>
            </a:r>
            <a:br>
              <a:rPr sz="4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au chocol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à la vani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accounts for the difference betwe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à 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your answ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cribe the ice cream flavors that would go with the following 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 citr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frambo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 caf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 noix de co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la cannel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ment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harma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trouver des médicaments (de l’asprine, etc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va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à 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rma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1816200" cy="2256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2120" y="426708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ibliothè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llez _____ bibliothèque pour étud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49244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ibliothè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llez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à 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bliothèque pour étud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49244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théâ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cteurs vont _____ théâ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40384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théâ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cteurs vont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éâ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40384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nfant va ____ mus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94360" y="2057400"/>
            <a:ext cx="3573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nfant va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94360" y="2057400"/>
            <a:ext cx="3573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ô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vacances, je vais ____ hôt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41148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ô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vacances, je vai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à l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ôt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41148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ta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vont ____ taba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781680" y="2209680"/>
            <a:ext cx="1752840" cy="1552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181480" y="4038480"/>
            <a:ext cx="3333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au citr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à la frambo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au caf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au noix de co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à la cannel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à la ment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ta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vont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ba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781680" y="2209680"/>
            <a:ext cx="1752840" cy="1552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181480" y="4038480"/>
            <a:ext cx="3333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né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dos vont ____ cinéma pour regarder les fil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né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dos vont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néma pour regarder les fil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a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amille va _____ par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33520" y="2633760"/>
            <a:ext cx="50292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a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amille va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2633760"/>
            <a:ext cx="50292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t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thlètes vont _____ st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3333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t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thlètes vont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3333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éro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allons ______ aéro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6483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éro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allons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à l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éro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6483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Français vont ______ g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741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vil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Français vont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à 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741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r - 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456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r –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o 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600200"/>
          <a:ext cx="8229600" cy="456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ll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ll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o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égl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 synagog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osqu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057400" cy="3333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2361960" cy="1996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324480" y="3733920"/>
            <a:ext cx="24768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trouver des livres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regarder “Night at the Museum II”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avoir des Euros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faire un pique-nique, où vas 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acheter un magazine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parler avec un docteur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acheter des timbres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prier, où vont les Chréti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prier, où vont les Juif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prier, où vont les Musulma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regarder les peintures de Monet et de Van Gogh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t, Aller, pl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prier – 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manger un steak-frites – Les Franç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jouer –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trouver un train – 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regarder un match de foot – 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acheter de l’aspirine – V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You have a very busy day ahead of you.  Write down (in complete sentences) 8 different places that you need to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228600"/>
          <a:ext cx="8229600" cy="5897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839520" cy="944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620120" y="4876920"/>
            <a:ext cx="839520" cy="1143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5562720" y="5181480"/>
            <a:ext cx="990360" cy="874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638680" y="2057400"/>
            <a:ext cx="893880" cy="1066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7467480" y="2133720"/>
            <a:ext cx="1143000" cy="992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1371600" y="373392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3352680" y="3657600"/>
            <a:ext cx="1143000" cy="9763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3429000" y="2133720"/>
            <a:ext cx="923760" cy="971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5334120" y="3733920"/>
            <a:ext cx="1143000" cy="874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7772400" y="3657600"/>
            <a:ext cx="711360" cy="884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838080" y="5181480"/>
            <a:ext cx="1371600" cy="905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3581280" y="5181480"/>
            <a:ext cx="776520" cy="838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>
            <a:off x="1143000" y="2209680"/>
            <a:ext cx="1219320" cy="797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4"/>
          <a:stretch/>
        </p:blipFill>
        <p:spPr>
          <a:xfrm>
            <a:off x="3429000" y="838080"/>
            <a:ext cx="838080" cy="739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5"/>
          <a:stretch/>
        </p:blipFill>
        <p:spPr>
          <a:xfrm>
            <a:off x="5638680" y="762120"/>
            <a:ext cx="914400" cy="890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6"/>
          <a:stretch/>
        </p:blipFill>
        <p:spPr>
          <a:xfrm>
            <a:off x="7391520" y="861840"/>
            <a:ext cx="106668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an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vai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n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15764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an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vai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à 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n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15764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af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llons ____ café pour avoir un chocolat cha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420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af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llon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fé pour avoir un chocolat cha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420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restau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vont ____ restau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1:04:42Z</dcterms:created>
  <dc:creator>mlcrossan</dc:creator>
  <dc:description/>
  <dc:language>en-US</dc:language>
  <cp:lastModifiedBy>mlcrossan</cp:lastModifiedBy>
  <dcterms:modified xsi:type="dcterms:W3CDTF">2009-09-12T02:38:50Z</dcterms:modified>
  <cp:revision>6</cp:revision>
  <dc:subject/>
  <dc:title>J’adore  la glace au chocolat  la glace à la vanille</dc:title>
</cp:coreProperties>
</file>