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E88-7C60-4150-956D-C46C496E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2AC-0A6C-48A5-AC8E-F9E599C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552-86F6-4C70-8750-372AF97B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D48-8FE6-4A64-872A-C2E990F8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10F-491C-40E5-8A27-74458BB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679-FA63-4706-9BD5-5939DE0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DD6-4E5E-44C6-AFD7-2C8B6E1D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B7F-1BD0-4118-B2BB-419B7FC9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F30-FA2F-4CC6-B0A4-58C341C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5E8-65A8-4EBF-81A2-3CCFD33D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C43-0287-4599-9D57-03E094C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829-91E7-4F59-899A-5F1A45A0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01A3-277E-4DE7-BA7B-DB9A5739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13.jpeg"/><Relationship Id="rId9" Type="http://schemas.openxmlformats.org/officeDocument/2006/relationships/image" Target="../media/image12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19.jpeg"/><Relationship Id="rId13" Type="http://schemas.openxmlformats.org/officeDocument/2006/relationships/image" Target="../media/image14.jpeg"/><Relationship Id="rId14" Type="http://schemas.openxmlformats.org/officeDocument/2006/relationships/image" Target="../media/image18.jpeg"/><Relationship Id="rId15" Type="http://schemas.openxmlformats.org/officeDocument/2006/relationships/image" Target="../media/image16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782640" cy="1067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1285920" cy="1043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553080" y="4952880"/>
            <a:ext cx="1981440" cy="13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9480" y="304920"/>
            <a:ext cx="1524240" cy="13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010280" y="3276720"/>
            <a:ext cx="1752840" cy="1552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666880" y="5105520"/>
            <a:ext cx="144792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95680" y="5029200"/>
            <a:ext cx="1600200" cy="13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743200" y="3505320"/>
            <a:ext cx="114948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572000" y="3352680"/>
            <a:ext cx="190512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14400" y="1828800"/>
            <a:ext cx="1019160" cy="1265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162920" y="1752480"/>
            <a:ext cx="1676160" cy="128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743200" y="1828800"/>
            <a:ext cx="1141560" cy="1200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4419720" y="1828800"/>
            <a:ext cx="1904760" cy="12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743200" y="380880"/>
            <a:ext cx="10159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76920" y="380880"/>
            <a:ext cx="13716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______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91320" y="3048120"/>
            <a:ext cx="2286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entre-com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re-commer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3129120"/>
            <a:ext cx="4724280" cy="3090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81480" y="29718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rance, most stores are closed le diman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at 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rea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20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_____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o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a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" y="1219320"/>
            <a:ext cx="2446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____ 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ersonnes malad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ôp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997360"/>
            <a:ext cx="40957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______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’adore 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hocol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vanil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accounts for the difference betw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your answ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e ice cream flavors that would go with the following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la cannel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harma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médicaments (de l’asprine, etc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rma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1816200" cy="2256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2120" y="4267080"/>
            <a:ext cx="419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_____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ibliothè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llez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bliothèque pour étud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49244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_____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héâ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éâ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4038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____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enfant v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94360" y="2057400"/>
            <a:ext cx="3573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____ 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ô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vacances, 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ôt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41148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____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itr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frambo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caf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au noix de coc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cannel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glace à la men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ta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ba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781680" y="2209680"/>
            <a:ext cx="1752840" cy="155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181480" y="4038480"/>
            <a:ext cx="3333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____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n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dos vont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inéma pour regarder les fil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_____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mille va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2633760"/>
            <a:ext cx="50292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_____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thlète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3333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______ 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éro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éro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______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vil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rançais vont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741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- 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r –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57200" y="1600200"/>
          <a:ext cx="8229600" cy="456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ll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ég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 synagog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osqu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057400" cy="3333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361960" cy="1996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324480" y="3733920"/>
            <a:ext cx="2476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trouver des liv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“Night at the Museum II”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voir des Euro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faire un pique-nique, où vas 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un magazine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arler avec un docteur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acheter des timbres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Chréti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Juif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prier, où vont les Musulm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regarder les peintures de Monet et de Van Gogh, où vas-t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t, Aller, pla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prier –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manger un steak-frites – Les Franç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jouer –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trouver un train – 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regarder un match de foot – 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acheter de l’aspirine – V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You have a very busy day ahead of you.  Write down (in complete sentences) 8 different places that you need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228600"/>
          <a:ext cx="8229600" cy="5897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839520" cy="944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620120" y="4876920"/>
            <a:ext cx="839520" cy="1143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562720" y="5181480"/>
            <a:ext cx="990360" cy="874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638680" y="2057400"/>
            <a:ext cx="893880" cy="1066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467480" y="2133720"/>
            <a:ext cx="1143000" cy="992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371600" y="373392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tretch/>
        </p:blipFill>
        <p:spPr>
          <a:xfrm>
            <a:off x="3352680" y="3657600"/>
            <a:ext cx="1143000" cy="976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923760" cy="97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9"/>
          <a:stretch/>
        </p:blipFill>
        <p:spPr>
          <a:xfrm>
            <a:off x="5334120" y="3733920"/>
            <a:ext cx="1143000" cy="874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tretch/>
        </p:blipFill>
        <p:spPr>
          <a:xfrm>
            <a:off x="7772400" y="3657600"/>
            <a:ext cx="711360" cy="884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tretch/>
        </p:blipFill>
        <p:spPr>
          <a:xfrm>
            <a:off x="838080" y="5181480"/>
            <a:ext cx="1371600" cy="905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581280" y="5181480"/>
            <a:ext cx="776520" cy="838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>
            <a:off x="1143000" y="2209680"/>
            <a:ext cx="1219320" cy="797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3429000" y="838080"/>
            <a:ext cx="838080" cy="739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5"/>
          <a:stretch/>
        </p:blipFill>
        <p:spPr>
          <a:xfrm>
            <a:off x="5638680" y="76212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6"/>
          <a:stretch/>
        </p:blipFill>
        <p:spPr>
          <a:xfrm>
            <a:off x="7391520" y="861840"/>
            <a:ext cx="106668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à 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15764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____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af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allons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fé pour avoir un chocolat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42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estaur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911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vont ____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1:04:42Z</dcterms:created>
  <dc:creator>mlcrossan</dc:creator>
  <dc:description/>
  <dc:language>en-US</dc:language>
  <cp:lastModifiedBy>mlcrossan</cp:lastModifiedBy>
  <dcterms:modified xsi:type="dcterms:W3CDTF">2009-09-12T02:38:50Z</dcterms:modified>
  <cp:revision>6</cp:revision>
  <dc:subject/>
  <dc:title>J’adore  la glace au chocolat  la glace à la vanille</dc:title>
</cp:coreProperties>
</file>