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A72-5265-49A1-A7CB-E46A3448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070-746B-450A-9832-D7840C08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F3A7-5949-46EE-975A-59105019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8EC-7770-436C-AF3D-5ACF0FF7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609-1F78-46A9-8ED4-6E03FAF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AB8-4864-451E-99D6-3D5D6A0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FAC-20C4-4F6C-B4D3-51AA4864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ACA-7766-4B82-84B6-3DB8034D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ECF-926E-4D46-9744-573324C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61F-0A8D-4819-A176-846836FE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2CC-295A-468B-9C96-12F9852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E4E-4662-465A-A879-B25C164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5BC-FA2E-4790-8798-ED2697D23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8624&amp;q=bon%20voyag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724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/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va regarder le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85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sk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8386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/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 va voy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71438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/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les vont étu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7084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/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anseuses vont dan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50194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/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s allez travai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03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/ Arriver 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us allons arriver à l’école à 7h35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27064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/ qu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 vas quitter l’école à 14h4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63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le Crossan / to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le Crossan va tomber si elle fait du sk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952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s allons cha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00080" y="1152360"/>
            <a:ext cx="7143840" cy="45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/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vais m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389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/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s vont écouter  de la mu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724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/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us allez jouer au fo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22:23:07Z</dcterms:created>
  <dc:creator>mlcrossan</dc:creator>
  <dc:description/>
  <dc:language>en-US</dc:language>
  <cp:lastModifiedBy>mlcrossan</cp:lastModifiedBy>
  <dcterms:modified xsi:type="dcterms:W3CDTF">2010-02-17T22:23:27Z</dcterms:modified>
  <cp:revision>1</cp:revision>
  <dc:subject/>
  <dc:title>Slide 1</dc:title>
</cp:coreProperties>
</file>