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9BD2-A67E-4DD5-967E-3DEF9DB8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197-AAE5-4CFD-908E-62E03C6B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89B-9B8B-461F-8DC1-813E4306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EE0-20D6-49F1-A5B7-5DBD7E35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1A0-C199-43BD-92FE-BDA06643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108-333E-418C-84D3-661E630F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9AA-0881-42FF-9281-B019B074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EEB-0EBD-4707-AC85-68204649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F3E-7B1C-4E77-BBB2-30914786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92B-5262-48E0-8C15-F85063C7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EB3-BC39-4A7D-9CAC-18D9B075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F98-E45F-46BA-973D-BC68E86F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12A4-7967-4E5D-AA41-9531412DA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38624&amp;q=bon%20voyag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38624&amp;q=bon%20voyag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/ 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24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vas 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24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/ Regarder le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8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va regarder le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8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/ sk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838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vais sk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838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 / voy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00080" y="1743120"/>
            <a:ext cx="71438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 va voy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00080" y="1743120"/>
            <a:ext cx="71438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/ étud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7084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vont étud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7084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s / cha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00080" y="1152360"/>
            <a:ext cx="71438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danseuses / dan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0194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danseuses vont dan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0194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s / trava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3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s allez trava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3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s / Arriver 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2706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us allons arriver à l’école à 7h3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2706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/ qui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905120"/>
            <a:ext cx="3632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vas quitter l’école à 14h4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905120"/>
            <a:ext cx="3632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le Crossan / to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49528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le Crossan va tomber si elle fait du sk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49528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s allons cha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00080" y="1152360"/>
            <a:ext cx="71438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/ m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389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vais m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389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s / Écouter  de la mu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724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s vont écouter  de la mu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724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us / jouer au f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us allez jouer au f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22:23:07Z</dcterms:created>
  <dc:creator>mlcrossan</dc:creator>
  <dc:description/>
  <dc:language>en-US</dc:language>
  <cp:lastModifiedBy>mlcrossan</cp:lastModifiedBy>
  <dcterms:modified xsi:type="dcterms:W3CDTF">2010-02-17T22:23:27Z</dcterms:modified>
  <cp:revision>1</cp:revision>
  <dc:subject/>
  <dc:title>Slide 1</dc:title>
</cp:coreProperties>
</file>