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CDB-C889-4150-90DE-38D9F192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58C-3D17-41BB-A4CE-3A9CB1BC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485-8123-4937-8A3C-F8BD865E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17C7-910E-44A1-96D0-15E67C21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27D-D40E-4468-A653-4EEDBFB9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399-9AF8-46AE-A346-8267AE88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87E-A8D5-41CB-B335-E509CBBA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550-5196-4F7A-A6EC-468CF05F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380-9E11-44E5-9404-F843280B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F182-D7DD-486A-8B85-5010ADAE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C41-343E-4466-84F3-4E2BB77C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F49-05EA-49AF-966D-077C9A2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86AD-C28B-4DD4-849D-ADD31E81B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38624&amp;q=bon%20voyag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38624&amp;q=bon%20voyag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 / 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242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 vas 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242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/ Regarder le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385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va regarder le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385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 / sk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8386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 vais sk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8386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 / voy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00080" y="1743120"/>
            <a:ext cx="71438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 va voy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00080" y="1743120"/>
            <a:ext cx="71438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s / étud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70844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s vont étud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70844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s / cha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00080" y="1152360"/>
            <a:ext cx="714384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danseuses / dan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501948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danseuses vont dan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501948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us / trava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3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us allez trava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3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s / Arriver 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27064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us allons arriver à l’école à 7h3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27064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 / qui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905120"/>
            <a:ext cx="3632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 vas quitter l’école à 14h4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905120"/>
            <a:ext cx="3632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le Crossan / to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49528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le Crossan va tomber si elle fait du sk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49528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s allons cha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00080" y="1152360"/>
            <a:ext cx="714384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 / m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3894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 vais m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3894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s / Écouter  de la mu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724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s vont écouter  de la mu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724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us / jouer au fo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148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us allez jouer au fo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148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22:23:07Z</dcterms:created>
  <dc:creator>mlcrossan</dc:creator>
  <dc:description/>
  <dc:language>en-US</dc:language>
  <cp:lastModifiedBy>mlcrossan</cp:lastModifiedBy>
  <dcterms:modified xsi:type="dcterms:W3CDTF">2010-02-17T22:23:27Z</dcterms:modified>
  <cp:revision>1</cp:revision>
  <dc:subject/>
  <dc:title>Slide 1</dc:title>
</cp:coreProperties>
</file>