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5F3-5BB2-4027-850C-4CA4602A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EC7-9AFB-4E4E-9591-AFC9DA3C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810-3CD3-4B6C-9C2C-D99E37D7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BF4-12A4-41BE-9715-5576E7D8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4EB-B28E-46F8-B89E-BAA3CCC0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779-8A47-4618-A657-DAC6F276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871-83AF-499E-A3DD-2290AC32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660-1330-4566-8837-9CB7970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A71-97C3-4950-B78D-6F91FFF9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8C1-9C72-49DE-8259-27E89F2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364-BB56-4A84-A510-DDD901A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872-4BB2-4DAE-B81A-E9369BD9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5DF2-FE9E-439B-A957-B238A7B1C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ots déscrip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ppétisan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u appétisa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ises au chocolat sont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ordures sont peu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2571840" cy="333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33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goûtant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lici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ccule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âtes sont délici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425760"/>
            <a:ext cx="3276360" cy="217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29200" y="2971800"/>
            <a:ext cx="333360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escargots sont dégoût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eti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r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aisins sont pet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nanas sont g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36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bo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pour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2371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24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5:58:59Z</dcterms:created>
  <dc:creator>mlcrossan</dc:creator>
  <dc:description/>
  <dc:language>en-US</dc:language>
  <cp:lastModifiedBy>mlcrossan</cp:lastModifiedBy>
  <dcterms:modified xsi:type="dcterms:W3CDTF">2010-02-22T20:38:14Z</dcterms:modified>
  <cp:revision>3</cp:revision>
  <dc:subject/>
  <dc:title>Les mots déscriptifs</dc:title>
</cp:coreProperties>
</file>