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154-2F35-4961-B537-B407D63F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D01-CE14-451B-8387-D2A74CE1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09FA-D258-4DEC-9C07-71080EC8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243-241F-4A1E-BCA4-45F8555C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365-07A1-4070-9C6D-ABDF8CBB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DCD-8571-4E28-A0F5-7E42E174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DAD-5167-48B1-B2CE-9057D8F1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023-60C1-494D-85B8-846BD166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F81-6324-4470-8D3C-F46BB097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AE8-11D8-4B63-97BF-D03F66F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3AA-7D22-4261-957F-A468BD36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6EE-CA78-448A-AF60-31751448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0209-E5C0-466C-AD72-0586E2DE4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3730&amp;q=pineappl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0371&amp;q=oni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76131&amp;q=peas&amp;s=1&amp;a=c&amp;cid=&amp;fic=0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07643&amp;q=potato&amp;s=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740520&amp;q=beef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81183&amp;q=shrimp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842397&amp;q=liv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0363&amp;q=escargot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729733&amp;q=ham&amp;s=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45123&amp;q=fish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34332&amp;q=chicken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92&amp;q=raspb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892456&amp;q=pasta&amp;s=6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41297&amp;q=baguett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8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1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3730&amp;q=pineappl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92&amp;q=raspb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8982&amp;q=pear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8982&amp;q=pear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37840&amp;q=apple&amp;s=3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1027&amp;q=grapes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2795937&amp;q=tomato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61156&amp;q=mushroom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85260&amp;q=beans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43290&amp;q=cor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0371&amp;q=oni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76131&amp;q=peas&amp;s=1&amp;a=c&amp;cid=&amp;fic=0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07643&amp;q=potato&amp;s=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37840&amp;q=apple&amp;s=3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740520&amp;q=beef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81183&amp;q=shrimp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842397&amp;q=liv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0363&amp;q=escargot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729733&amp;q=ham&amp;s=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45123&amp;q=fish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34332&amp;q=chicken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892456&amp;q=pasta&amp;s=6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41297&amp;q=baguett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8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1027&amp;q=grapes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1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05501&amp;q=yogurt%5C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5252&amp;q=chees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53762&amp;q=ice%20cream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42167&amp;q=egg&amp;s=3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2795937&amp;q=tomato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61156&amp;q=mushroom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85260&amp;q=beans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schools.clipart.com/search/close-up?oid=3943290&amp;q=cor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600200"/>
            <a:ext cx="2762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4038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03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39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39621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600200"/>
            <a:ext cx="73911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166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60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43000" y="2057400"/>
            <a:ext cx="67057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828800"/>
            <a:ext cx="3363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76520"/>
            <a:ext cx="5715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3886200" cy="34909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1814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89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43434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nana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600200"/>
            <a:ext cx="2762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rambois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rambo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60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ir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mm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m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raisi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ai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757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o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hampigno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hamp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haricots-ver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ï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igno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etits-p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4038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mmes de terre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mme de t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rev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03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o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39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escargo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scar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39621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jam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600200"/>
            <a:ext cx="73911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i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166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u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â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43000" y="2057400"/>
            <a:ext cx="67057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bagu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bagu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828800"/>
            <a:ext cx="3363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76520"/>
            <a:ext cx="5715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757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roissan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3886200" cy="3490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rois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ya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3716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ro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905120"/>
            <a:ext cx="51814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752480"/>
            <a:ext cx="289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œu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2743200"/>
            <a:ext cx="43434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2:53:51Z</dcterms:created>
  <dc:creator>mlcrossan</dc:creator>
  <dc:description/>
  <dc:language>en-US</dc:language>
  <cp:lastModifiedBy>mlcrossan</cp:lastModifiedBy>
  <dcterms:modified xsi:type="dcterms:W3CDTF">2009-09-21T15:19:29Z</dcterms:modified>
  <cp:revision>3</cp:revision>
  <dc:subject/>
  <dc:title>26 items</dc:title>
</cp:coreProperties>
</file>