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A41-9896-48CD-9E1F-2670BFBB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B65-1EEB-41F1-ADA6-B8F0BE37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86B-F1C7-40AF-B718-8A74C03C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C51-0FB1-4855-97E0-365E81AB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DD0-8EFB-4FCD-A13B-F1990398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9E4-4637-4747-93A9-BCFDD57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B3C-537F-4383-8F7D-10FAC9A5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2EC-4CE0-4D5C-A885-F6E4D4F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C03-3014-49F0-89A7-9386CAEB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AFF-0936-46DD-BB6F-62C1CB2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344-555D-4114-870C-43A418E6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921-53B1-4735-8A2D-B213D25F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5D91-853E-42FF-9D74-FC98A2FA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730&amp;q=pineapp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92&amp;q=rasp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43290&amp;q=cor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0371&amp;q=oni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76131&amp;q=peas&amp;s=1&amp;a=c&amp;cid=&amp;fic=0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8982&amp;q=pear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07643&amp;q=potato&amp;s=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740520&amp;q=beef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81183&amp;q=shrimp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842397&amp;q=liv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729733&amp;q=ham&amp;s=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45123&amp;q=fish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3934332&amp;q=chicke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schools.clipart.com/search/close-up?oid=892456&amp;q=pasta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41297&amp;q=baguett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37840&amp;q=apple&amp;s=31&amp;a=c&amp;cid=&amp;fic=0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118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17&amp;q=bread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05501&amp;q=yogurt%5C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2&amp;q=chees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53762&amp;q=ice%20cream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42167&amp;q=egg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027&amp;q=grape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2795937&amp;q=tomato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61156&amp;q=mushroom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60&amp;q=beans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Click on the sound ic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click through the three lines of tex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Replay the s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adorent le maï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prennent du maï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0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o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4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petits-p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chètes des petits-p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4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 de t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e les pommes de ter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chète des pommes de ter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5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bo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ime le boeu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end du boeu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11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crev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crev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 dîner, nous mangeons des crev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6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aiment le f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mangent du fo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4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escar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escargo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désirez des escargo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éfère le jam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prend du jam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657600"/>
            <a:ext cx="5334120" cy="279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1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dore le poi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désire du poiss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1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an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an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anan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9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poul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u poul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0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es pâ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s pâ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4114800"/>
            <a:ext cx="5105160" cy="2155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1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bagu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rançais adorent les baguet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Français mangent des baguet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40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4229280" cy="2346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49568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495680" y="22096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rançais adorent le p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rançais mangent du p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20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roiss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croiss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désirons des croissants! (avec du nutell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40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yaourt / du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 yaourt à la van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prends du yaourt à la fra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7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48040" cy="2044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adorent le froma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prennent du fro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30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adore la glace au chocola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élèves mangent de la g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894040" cy="4114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5000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 o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oeu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-ce que tu prends un oeuf ou des oeu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4343400" cy="274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300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ana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600200"/>
            <a:ext cx="2762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framb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frambo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frambo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4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mbois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rambo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60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ir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aisi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ai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to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o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hamp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haricots-ver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ï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ignon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etits-po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4038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s poi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chètes des po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mmes de terre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mme de t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ev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3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o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76520"/>
            <a:ext cx="39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escargo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scar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76520"/>
            <a:ext cx="39621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19320" y="1600200"/>
            <a:ext cx="73911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66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u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â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2057400"/>
            <a:ext cx="67057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gu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bag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828800"/>
            <a:ext cx="3363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l aime les pom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pom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12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76520"/>
            <a:ext cx="5715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roissants (m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3886200" cy="3490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roi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ya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3716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ro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1905120"/>
            <a:ext cx="5181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752480"/>
            <a:ext cx="289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u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743200"/>
            <a:ext cx="43434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rai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ime les rai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s rai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757320" cy="4495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to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to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s to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081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13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hamp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champign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es champign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haricot-v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aiment les haricots-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achètent des haricots-ve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943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2:53:51Z</dcterms:created>
  <dc:creator>mlcrossan</dc:creator>
  <dc:description/>
  <dc:language>en-US</dc:language>
  <cp:lastModifiedBy>mlcrossan</cp:lastModifiedBy>
  <dcterms:modified xsi:type="dcterms:W3CDTF">2010-08-22T04:04:44Z</dcterms:modified>
  <cp:revision>4</cp:revision>
  <dc:subject/>
  <dc:title>26 items</dc:title>
</cp:coreProperties>
</file>