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1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0DE-8CA0-4C09-8E8E-3B88171B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BFC-0DD0-4637-93FD-8CB06EA3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DB4-369B-44E2-9831-B63CE580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FEE1-AE89-4E8E-8D52-1FF3883E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4A1-1D3F-48C3-A009-F91F5561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606-F2D9-46F5-8EA9-2F61BF09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1B4-8347-4182-B0CE-5F86D57B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6AF-7B63-4ADA-9DE5-55488032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7AEF-427E-4726-A2EE-C73406F4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050-C958-4BA3-AC85-35528AF2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F75-ABE6-4BAE-9E87-B1F6A3B4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DAA-8F76-4412-845F-5B8E0E46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56AD-0FE3-4D7C-B90E-90EA21A54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13998&amp;q=broccoli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0710&amp;q=carrot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13968&amp;q=cabbag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4419&amp;q=zucchini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78086&amp;q=pickl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12817&amp;q=lettuc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64713&amp;q=oliv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0067&amp;q=eggplant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075039&amp;q=squid&amp;s=6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11897&amp;q=turkey&amp;s=12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21130&amp;q=banana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27180&amp;q=frog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776301&amp;q=lobster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4023915&amp;q=oyster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31236&amp;q=pork&amp;s=31&amp;a=c&amp;cid=&amp;fic=0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68&amp;q=salmon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28322&amp;q=ch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42&amp;q=lem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4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9145&amp;q=strawberry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5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76135&amp;q=orange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6.jpeg"/><Relationship Id="rId3" Type="http://schemas.openxmlformats.org/officeDocument/2006/relationships/video" Target="file:///tmp/home/.config/libreoffice/4/user/gallery/Recorded%20Sound" TargetMode="External"/><Relationship Id="rId4" Type="http://schemas.microsoft.com/office/2007/relationships/media" Target="file:///tmp/home/.config/libreoffice/4/user/gallery/Recorded%20Sound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7808&amp;q=grapefruit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03636&amp;q=watermelon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985251&amp;q=peach&amp;s=1&amp;a=c&amp;cid=&amp;k_mode=all&amp;k_exc=&amp;q_jpeg=1&amp;q_gif=1&amp;q_color=1&amp;q_bw=1&amp;q_eps=1&amp;q_wmf=1&amp;q_psd=1&amp;q_png=1&amp;date=&amp;pubid=&amp;isadv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stru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: 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Click on the sound ic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click through the three lines of text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Replay the soun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rep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bro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ultes aiment le broc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ultes mangent du broc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652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2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caro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mange des caro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9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 ch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u ch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9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urg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ime les courg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es courget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523880"/>
            <a:ext cx="1465200" cy="4572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0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rnich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 déteste les cornich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. B mange des cornich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00200"/>
            <a:ext cx="3886200" cy="2550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1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a sal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mange de la sal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315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0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o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enons des o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128680"/>
            <a:ext cx="3657600" cy="3629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0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uberg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’auberg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renez de l’auberg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1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la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Italiens aiment le ca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mangent du cala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2264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1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d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aiment la di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mangent de la dinde au mois de nov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00320" cy="426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13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nanes (f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s ban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chète des ban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125520" cy="449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renou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a grenouil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e la grenouil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510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0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ho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ime le hom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u homard à la poissonne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744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10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ui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imons les hui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mangeons des hui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362320"/>
            <a:ext cx="4267440" cy="34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0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 por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u po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752480"/>
            <a:ext cx="3267360" cy="3733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9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au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e sau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prend du sau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2446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10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ifteck / le st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 bift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u st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648320" cy="2724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8" dur="130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éré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enfants aiment la céré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enfants mangent de la céré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4343400" cy="2638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1200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071960" cy="43434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imes le ri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prends du ri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2" dur="90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ayonnai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préfères la mayonna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désires de la mayonna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470040" cy="3724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7432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4" dur="1200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el et le poiv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333960" cy="20955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aime le sel et le poiv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désire du sel et du poiv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1200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er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préfères les ce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manges des cer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00200"/>
            <a:ext cx="316080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onfi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à la fraise / à la framboise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3400" y="2195640"/>
            <a:ext cx="3286080" cy="33336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dore la conf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prend de la conf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8" dur="1900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outar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43160" y="2195640"/>
            <a:ext cx="2266920" cy="3333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éférons la mou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renons de la mou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0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uc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09640" y="2252520"/>
            <a:ext cx="3333600" cy="3219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. adore le suc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e B prend du sucre avec son caf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2" dur="110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i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ime les ci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achète des ci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2136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aime les fraises; elles sont succul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achète des fra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886200" cy="4648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4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détestons les or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nous achetons des or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3565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amplemo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imez les pamplemou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mangez des pamplemou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3962160" cy="2693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pastè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aiment la pastè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méricains mangent de la pastè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971800"/>
            <a:ext cx="4419720" cy="279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ê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préfèrent les pêches délicie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s mangent des pêches appétis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523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5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0:18:17Z</dcterms:created>
  <dc:creator>mlcrossan</dc:creator>
  <dc:description/>
  <dc:language>en-US</dc:language>
  <cp:lastModifiedBy>mlcrossan</cp:lastModifiedBy>
  <dcterms:modified xsi:type="dcterms:W3CDTF">2010-09-16T01:11:47Z</dcterms:modified>
  <cp:revision>4</cp:revision>
  <dc:subject/>
  <dc:title>Instructions :   1) Click on the sound icon and repeat  2) click through the three lines of text  3) Replay the sounds and repeat</dc:title>
</cp:coreProperties>
</file>