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11B-A536-41CA-A98D-44E12109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ED0-F798-4259-8969-CF27D3D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105-D684-4ABE-AD56-FC45C8BE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0F9-27BB-4356-95AD-A5E91D15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2A8-554F-454E-90ED-4F6123D6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30E-19BF-4C1F-B40A-FD41FA9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20B-19EC-41F2-A7B5-A45DF758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DB9-705A-4540-B861-D1E69DE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2F3-7D4C-416D-97F2-EA245B09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16C-D11C-40AD-9808-065B4CF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6B6-0F22-4CDF-93AD-25D9951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EDE4-8F2D-476C-BF03-E340D461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A09-46EF-43D6-9EA8-D76BA44F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68&amp;q=salmo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chools.clipart.com/search/close-up?oid=3985237&amp;q=beef&amp;s=1&amp;a=c&amp;cid=&amp;fic=0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139041&amp;q=cereal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4020642&amp;q=ric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nourri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1600200"/>
            <a:ext cx="5715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609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914400" y="1676520"/>
            <a:ext cx="7162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78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392360" cy="471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5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28960" y="2195640"/>
            <a:ext cx="3286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2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867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e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mplem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pastè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752480"/>
            <a:ext cx="571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ê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ro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urg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ber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la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ren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ho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i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1600200"/>
            <a:ext cx="5715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u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fteck / le st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2133720"/>
            <a:ext cx="609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éré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76520"/>
            <a:ext cx="7162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978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ayonnai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392360" cy="4714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el et le poiv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5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nfi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à la fraise / à la framboise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928960" y="2195640"/>
            <a:ext cx="3286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utar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2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uc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867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752480"/>
            <a:ext cx="571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3:02:36Z</dcterms:created>
  <dc:creator>mlcrossan</dc:creator>
  <dc:description/>
  <dc:language>en-US</dc:language>
  <cp:lastModifiedBy>mlcrossan</cp:lastModifiedBy>
  <dcterms:modified xsi:type="dcterms:W3CDTF">2009-09-28T19:16:52Z</dcterms:modified>
  <cp:revision>4</cp:revision>
  <dc:subject/>
  <dc:title>Slide 1</dc:title>
</cp:coreProperties>
</file>