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08E-5917-47A2-9B49-A96E83B6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5B5-F301-4D61-BB03-9BDF1208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012-8A36-4A1E-9B14-EFE726B9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E40-EABB-4930-BE35-A8E1DDC8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0B0-2834-49DA-9219-00357FA6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B90-4FF7-44A2-9066-DFA8DDAD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AA7-7B3D-4955-B7EC-715A40AB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6D8-B52A-4552-9BB3-77E6B0B5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D46-4BF9-4739-A4FA-B4CCB379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7B8-26CC-45D5-ADEE-99A0B13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420-ABB6-4C66-A6D9-B32B8A3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EEC-5373-4FAB-8039-879A1F3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AAE-03FF-4BE8-8752-D285DE07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ots déscrip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ppétisan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u appétisa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ises au chocolat sont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ordures sont peu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2571840" cy="333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33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goûtant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lici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ccule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âtes sont délici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425760"/>
            <a:ext cx="3276360" cy="217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29200" y="2971800"/>
            <a:ext cx="333360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escargots sont dégoût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eti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r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aisins sont pet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nanas sont g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36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bo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pour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2371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24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5:58:59Z</dcterms:created>
  <dc:creator>mlcrossan</dc:creator>
  <dc:description/>
  <dc:language>en-US</dc:language>
  <cp:lastModifiedBy>mlcrossan</cp:lastModifiedBy>
  <dcterms:modified xsi:type="dcterms:W3CDTF">2010-02-22T20:38:14Z</dcterms:modified>
  <cp:revision>3</cp:revision>
  <dc:subject/>
  <dc:title>Les mots déscriptifs</dc:title>
</cp:coreProperties>
</file>