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8C58-31CC-4055-B102-E1AE6B1F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4FE-BCCE-415E-AD07-8A3B166F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04F-3B38-418A-86DD-3D8F235A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C32-5B58-4985-842A-AD674496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AF0-5E81-4789-A3B0-47EDD030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79D-BD3E-4876-AF57-1C75A9FD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8D8-9C3E-4EBF-8009-8759C8F1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BE02-C130-4D74-97AD-09AA7B8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C63-E94C-4268-A041-3E0B7AE0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D1C-703F-477A-8369-ECCC7E8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380-2C51-45A2-8CAC-4215414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AB2-7DCD-4246-A248-47BB77D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EC6C-926B-419E-A0E8-01E587B0A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s.clipart.com/search/close-up?oid=3840363&amp;q=escargot&amp;s=1&amp;a=c&amp;cid=&amp;k_mode=all&amp;k_exc=&amp;q_jpeg=1&amp;q_gif=1&amp;q_color=1&amp;q_eps=1&amp;q_wmf=1&amp;q_psd=1&amp;q_png=1&amp;date=&amp;pubid=&amp;isadv=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mots déscrip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ppétisant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eu appétisan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fraises au chocolat sont appétis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ordures sont peu appétis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2571840" cy="3333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3333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goûtant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licieux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ucculen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pâtes sont délicie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425760"/>
            <a:ext cx="3276360" cy="2176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29200" y="2971800"/>
            <a:ext cx="3333600" cy="3200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19810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escargots sont dégoûta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etit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Gr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raisins sont pet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nanas sont g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210816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1636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ur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bananes sont bon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bananes sont pour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333360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3048120"/>
            <a:ext cx="23716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4246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58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197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0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5:58:59Z</dcterms:created>
  <dc:creator>mlcrossan</dc:creator>
  <dc:description/>
  <dc:language>en-US</dc:language>
  <cp:lastModifiedBy>mlcrossan</cp:lastModifiedBy>
  <dcterms:modified xsi:type="dcterms:W3CDTF">2010-02-22T20:38:14Z</dcterms:modified>
  <cp:revision>3</cp:revision>
  <dc:subject/>
  <dc:title>Les mots déscriptifs</dc:title>
</cp:coreProperties>
</file>