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1CC-1A24-4B26-BABC-2DAA8E17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D91-B4F7-4526-AACF-D59D349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028-510E-4A1D-90E4-37C9DA0E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ABC-F789-4485-AFC2-48DE3D2C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0CF-3DB0-438A-ACDB-F40ED05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70E-A571-43BF-A368-A5E9BD5C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709-F6CD-4F08-AD51-FC2236F9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400-C202-4715-8370-431EA24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835-FFA9-4FE9-A6FB-4390296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6EF-DB31-4803-85E3-7FD9773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11F-2CEA-48C9-B3F2-4CFE627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93D-B47F-4D34-9D69-B34B8272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8D2-4F91-49DE-916C-6DE2BAD2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09-09-21T15:19:29Z</dcterms:modified>
  <cp:revision>3</cp:revision>
  <dc:subject/>
  <dc:title>26 items</dc:title>
</cp:coreProperties>
</file>