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2503-F6B3-44E7-B2B8-E16D4C633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72A5-7124-45DC-8CAE-3E931C09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B231-C3F7-45B3-B2D5-7838F3861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6DBD-4785-4180-8700-EDEC1DAB8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6C0B-569E-409A-B057-12643F07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DE53-47EA-4A67-8EBD-F6A415D3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77BF-72FA-4379-99B1-FEF8D8CF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7AA9-B86B-4225-91D9-43CF84F3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1FC6-5193-485A-B3E3-70183768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8F42-4757-4AF0-854E-D8D9ACA3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B22F-B578-4BEA-B872-72453B54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FC2B-11EF-4496-B084-2D17D7AE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B9E2-DB6A-4148-A05C-4D09EC876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03730&amp;q=pineapple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70371&amp;q=onion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976131&amp;q=peas&amp;s=1&amp;a=c&amp;cid=&amp;fic=0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07643&amp;q=potato&amp;s=1&amp;a=c&amp;cid=&amp;fic=0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740520&amp;q=beef&amp;s=9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981183&amp;q=shrimp&amp;s=1&amp;a=c&amp;cid=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842397&amp;q=liver&amp;s=1&amp;a=c&amp;cid=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40363&amp;q=escargot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729733&amp;q=ham&amp;s=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945123&amp;q=fish&amp;s=9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934332&amp;q=chicken&amp;s=1&amp;a=c&amp;cid=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81192&amp;q=raspberry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892456&amp;q=pasta&amp;s=6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41297&amp;q=baguette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81187&amp;q=bread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09117&amp;q=bread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03730&amp;q=pineapple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81192&amp;q=raspberry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78982&amp;q=pear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78982&amp;q=pear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37840&amp;q=apple&amp;s=31&amp;a=c&amp;cid=&amp;fic=0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21027&amp;q=grapes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2795937&amp;q=tomato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61156&amp;q=mushroom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985260&amp;q=beans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943290&amp;q=corn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70371&amp;q=onion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976131&amp;q=peas&amp;s=1&amp;a=c&amp;cid=&amp;fic=0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07643&amp;q=potato&amp;s=1&amp;a=c&amp;cid=&amp;fic=0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37840&amp;q=apple&amp;s=31&amp;a=c&amp;cid=&amp;fic=0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740520&amp;q=beef&amp;s=9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981183&amp;q=shrimp&amp;s=1&amp;a=c&amp;cid=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842397&amp;q=liver&amp;s=1&amp;a=c&amp;cid=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40363&amp;q=escargot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729733&amp;q=ham&amp;s=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945123&amp;q=fish&amp;s=9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934332&amp;q=chicken&amp;s=1&amp;a=c&amp;cid=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892456&amp;q=pasta&amp;s=6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41297&amp;q=baguette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81187&amp;q=bread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21027&amp;q=grapes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09117&amp;q=bread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05501&amp;q=yogurt%5C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85252&amp;q=cheese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53762&amp;q=ice%20cream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42167&amp;q=egg&amp;s=31&amp;a=c&amp;cid=&amp;fic=0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2795937&amp;q=tomato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61156&amp;q=mushroom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985260&amp;q=beans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943290&amp;q=corn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1600200"/>
            <a:ext cx="2762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76520"/>
            <a:ext cx="40384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96216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9621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03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76520"/>
            <a:ext cx="398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76520"/>
            <a:ext cx="396216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19320" y="1600200"/>
            <a:ext cx="739116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1669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96216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60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43000" y="2057400"/>
            <a:ext cx="67057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1828800"/>
            <a:ext cx="3363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676520"/>
            <a:ext cx="5715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676520"/>
            <a:ext cx="3886200" cy="34909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666880" y="137160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51814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2894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114800" y="2743200"/>
            <a:ext cx="434340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ananas (m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an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1600200"/>
            <a:ext cx="2762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framboises (f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frambo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60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00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oires (f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00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ommes (f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om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raisins (m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rais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757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tom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to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hampignons (m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champig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haricots-verts (m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384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maï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3848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oignons (m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oig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etits-po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76520"/>
            <a:ext cx="40384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ommes de terre (f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omme de t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96216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b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9621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revet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03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o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76520"/>
            <a:ext cx="398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escargots (m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escarg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76520"/>
            <a:ext cx="396216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jamb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19320" y="1600200"/>
            <a:ext cx="739116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oi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1669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ou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96216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â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43000" y="2057400"/>
            <a:ext cx="67057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baguet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 bague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1828800"/>
            <a:ext cx="3363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676520"/>
            <a:ext cx="5715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757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roissants (m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676520"/>
            <a:ext cx="3886200" cy="34909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croiss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yaou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137160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rom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1905120"/>
            <a:ext cx="51814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g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1752480"/>
            <a:ext cx="2894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œu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2743200"/>
            <a:ext cx="434340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384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3848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02:53:51Z</dcterms:created>
  <dc:creator>mlcrossan</dc:creator>
  <dc:description/>
  <dc:language>en-US</dc:language>
  <cp:lastModifiedBy>mlcrossan</cp:lastModifiedBy>
  <dcterms:modified xsi:type="dcterms:W3CDTF">2009-09-21T15:19:29Z</dcterms:modified>
  <cp:revision>3</cp:revision>
  <dc:subject/>
  <dc:title>26 items</dc:title>
</cp:coreProperties>
</file>