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991-3079-4845-8C3C-565EC130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4C7-3AF7-4B10-AAA0-810A6D5E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FF6-F6BA-46DE-9962-E32A637D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AF3-7795-4D3C-96F7-B5F3E261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0872-C64D-4A42-A4B0-BB0385DB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A14-1967-41F9-B666-0BBE7621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4A5-B4F3-486E-BE17-9A991185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2C3-71D1-4DD7-89A4-E0F01D99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3B8-F114-4339-B157-F20C49CE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12C-DC78-49EF-829B-CFCE35C4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0B9-BAC4-4559-910C-8923726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12C-FA2D-458C-A81D-B790A6DC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B096-7098-419C-8298-ED883B72F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05501&amp;q=yogurt%5C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52&amp;q=chees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53762&amp;q=ice%20cream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2167&amp;q=egg&amp;s=3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Click on the sound ic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click through the three lines of tex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Replay the s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maï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adorent le maï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prennent du maï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0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o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petits-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s petits-po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chètes des petits-p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4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pomme de t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ime les pommes de ter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chète des pommes de ter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5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bo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ime le boeu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prend du boeu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1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crev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crev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 dîner, nous mangeons des crev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6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fo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aiment le f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mangent du f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4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escar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s escargo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ésirez des escargo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1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jam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préfère le jam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prend du jam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3657600"/>
            <a:ext cx="5334120" cy="2792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1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poi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dore le poiss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désire du poiss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2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an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an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chète des anan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9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9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pou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 poul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u poul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0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pâ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es pâ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mange des pâ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4114800"/>
            <a:ext cx="5105160" cy="215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1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bag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rançais adorent les baguet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rançais mangent des baguet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2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400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666880"/>
            <a:ext cx="4229280" cy="2346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495680" y="2209680"/>
            <a:ext cx="4114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rançais adorent le p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rançais mangent du p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2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roiss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croiss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désirons des croissants! (avec du nutell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400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yaourt / du ya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 yaourt à la van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prends du yaourt à la f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700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fro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848040" cy="2044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adorent le froma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prennent du fro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1300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la g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 adore la glace au chocol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élèves mangent de la g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894040" cy="4114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50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 o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s oeuf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que tu prends un oeuf ou des oeuf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4343400" cy="2747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1300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nana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framb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frambo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chète des frambo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0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4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mbois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rambo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ir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aisi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ai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o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hamp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haricots-ver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ï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etits-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p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s poi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chètes des po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1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de terre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de t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ev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o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escargo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scar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m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600200"/>
            <a:ext cx="73911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i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u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â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2057400"/>
            <a:ext cx="67057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gu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bagu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p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l aime les pom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es pom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oissan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roi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ya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3716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ro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905120"/>
            <a:ext cx="5181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752480"/>
            <a:ext cx="28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u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743200"/>
            <a:ext cx="43434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rai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ime les rai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mange des rai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to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to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enons des to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3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hamp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s champign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es champign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haricot-v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aiment les haricots-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achètent des haricots-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2:53:51Z</dcterms:created>
  <dc:creator>mlcrossan</dc:creator>
  <dc:description/>
  <dc:language>en-US</dc:language>
  <cp:lastModifiedBy>mlcrossan</cp:lastModifiedBy>
  <dcterms:modified xsi:type="dcterms:W3CDTF">2010-08-22T04:04:44Z</dcterms:modified>
  <cp:revision>4</cp:revision>
  <dc:subject/>
  <dc:title>26 items</dc:title>
</cp:coreProperties>
</file>