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1CC-7455-4AC5-9CE6-7F27B7D4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C8C-63C0-4EB8-BB86-4A2C324A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D6D-287A-4878-9E5F-99488952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877-3123-415B-B92A-C89C7D3E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5C3-49DF-41B3-AACB-633752D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EB1-7F21-476E-AAD5-DBFCFF33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2EC-212D-4568-9D23-A22504A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1BC-49F3-4938-A967-8F5F3ED9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BCB-6EB7-4B75-9111-7425C22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C20-659F-442F-930B-4E4F0D8F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B75-51A8-4450-907F-7D4268C4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7A7-1F00-49B3-9C57-96A6FF6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558F-9174-44A3-BA69-3FC7C403C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adorent le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ennent du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etits-p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etits-p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 de 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pommes de ter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chète des pommes de te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5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b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ime le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rev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 dîner, nous mangeons d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6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iment le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mangent du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ésirez d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éfère le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657600"/>
            <a:ext cx="5334120" cy="279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1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dore le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ana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0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s pâ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pâ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114800"/>
            <a:ext cx="5105160" cy="21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1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ag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adorent l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mangent d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4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4229280" cy="2346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95680" y="22096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adorent le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mangent du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oiss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sirons des croissants! (avec du nutell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yaourt / du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yaourt à la van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prends du yaourt à la f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7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48040" cy="2044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dorent le from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prennent du fro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30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adore la glace au chocol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élèves mangent de la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89404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5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 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tu prends un oeuf ou d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4343400" cy="27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3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framb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o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o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l aime l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rai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to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amp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champign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champign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haricot-v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iment l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chètent d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10-08-22T04:04:44Z</dcterms:modified>
  <cp:revision>4</cp:revision>
  <dc:subject/>
  <dc:title>26 items</dc:title>
</cp:coreProperties>
</file>