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931-FBCE-4BF7-9388-D84F5833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B44-6028-448F-9827-C799B090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354-BEDD-4CC9-A377-E004988B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D23-D01F-4248-B440-37B65812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FBB-5E6F-418D-B642-BAEF63F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4A5-031B-4963-AF10-F1C9157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1A1-C019-4803-9580-A6F3A19A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933-F392-4B7A-BB62-37B5652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D2F2-0215-4F7E-85DA-688F895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DBD-4181-47EE-82C0-74730197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0C3-4CE9-45B6-8DD2-EC0A0BF5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E65-560D-48C5-832C-3CDF105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733E-6887-4535-BA0F-662ECB4D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68&amp;q=salmon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Click on the sound ic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click through the three lines of tex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Replay the s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ro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ultes aiment le broc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ultes mangent du broc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caro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mange des caro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9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c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u c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9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urg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s courg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courg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déteste les cornich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 mange des cornich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1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a s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 la s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0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o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s o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0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uber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’auberg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renez de l’auberg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1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la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Italiens aiment le ca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mangent du ca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1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aiment la di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mangent de la dinde au mois de nov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nan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ban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ban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ren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a grenou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e la grenou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0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ho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 hom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u homard à la poissonne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1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i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hui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mangeons des hui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267440" cy="34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 por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u po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9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u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e sau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prend du sau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10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fteck / le st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 bift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u st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648320" cy="2724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1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éré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nfants aiment la céré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nfants mangent de la céré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343400" cy="2638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2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071960" cy="4343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ri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ends du ri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90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ayonnai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éfères la mayonn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désires de la mayonn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70040" cy="3724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4" dur="12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el et le poiv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33396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 sel et le poiv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désire du sel et du poiv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20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e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éfères les ce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es ce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nfi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à la fraise / à la framboise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3400" y="2195640"/>
            <a:ext cx="3286080" cy="3333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a conf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prend de la conf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19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utar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43160" y="2195640"/>
            <a:ext cx="2266920" cy="3333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éférons la mou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 la mou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0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uc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09640" y="2252520"/>
            <a:ext cx="3333600" cy="3219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. adore le suc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prend du sucre avec son 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1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s ci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ci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aime les fraises; elles sont succul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achète des fra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détestons les o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nous achetons des o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mplem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pamplemou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es pamplemou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ast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aiment la past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mangent de la past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971800"/>
            <a:ext cx="4419720" cy="279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ê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préfèrent les pêches délicie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mangent des pêches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5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0:18:17Z</dcterms:created>
  <dc:creator>mlcrossan</dc:creator>
  <dc:description/>
  <dc:language>en-US</dc:language>
  <cp:lastModifiedBy>mlcrossan</cp:lastModifiedBy>
  <dcterms:modified xsi:type="dcterms:W3CDTF">2010-09-16T01:11:47Z</dcterms:modified>
  <cp:revision>4</cp:revision>
  <dc:subject/>
  <dc:title>Instructions :   1) Click on the sound icon and repeat  2) click through the three lines of text  3) Replay the sounds and repeat</dc:title>
</cp:coreProperties>
</file>