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0EF-A4F4-4D95-B547-A6E11FE3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16D-BA04-4FED-9B49-4EA2CFB8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204-0B4F-4507-A1A0-5A89AF99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8FF-88D6-4BEF-834B-9F236238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2EB-8174-467A-A0FC-94AA568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C5E-006F-449B-AC07-9F49109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A70-5706-40A5-8B18-0B8A58AE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33E-929F-4F60-8FC3-5D1B43B5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950-808B-4C5D-8596-3804889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7E83-B755-4663-8D82-3CCAFEC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891-2C98-4FAB-BED7-19D1377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C28-C8D3-4C21-B20C-D46B520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185D-CAFF-4176-9E94-76F8D19D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chools.clipart.com/search/close-up?oid=3985237&amp;q=beef&amp;s=1&amp;a=c&amp;cid=&amp;fic=0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139041&amp;q=cereal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0642&amp;q=ric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nourri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pastè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ber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3:02:36Z</dcterms:created>
  <dc:creator>mlcrossan</dc:creator>
  <dc:description/>
  <dc:language>en-US</dc:language>
  <cp:lastModifiedBy>mlcrossan</cp:lastModifiedBy>
  <dcterms:modified xsi:type="dcterms:W3CDTF">2009-09-28T19:16:52Z</dcterms:modified>
  <cp:revision>4</cp:revision>
  <dc:subject/>
  <dc:title>Slide 1</dc:title>
</cp:coreProperties>
</file>