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BA5-3924-4686-80B6-F5238FF0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629-63A7-4427-AC0A-FB8EC72B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3949-4E89-4716-A906-13AEFCA9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3D3-C2F0-4596-83F0-33EB6597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1F8-A77C-4A2D-A0FB-61FCD2DD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4FC-1EEE-4FEA-B7FB-930D4117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E40-E693-4910-B4EF-B08D6E61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48B-357A-4F62-8759-A5CB79CA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F25-A5F3-42E3-BEFD-D86B5E0E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505-BA0F-4DBB-B2EB-EC143AAE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818-507A-4519-89C9-5B1C74C4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79D-4CAB-467D-9FCE-46E3AC95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610D-7AF9-402A-8A90-55A35977E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3998&amp;q=broccoli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20710&amp;q=carro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3968&amp;q=cabbag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4419&amp;q=zucchini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78086&amp;q=pickl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2817&amp;q=lettuc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64713&amp;q=oliv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0067&amp;q=eggplan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075039&amp;q=squid&amp;s=6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11897&amp;q=turkey&amp;s=12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21130&amp;q=banana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27180&amp;q=frog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76301&amp;q=lobst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4023915&amp;q=oyst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31236&amp;q=pork&amp;s=3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28322&amp;q=cherry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21130&amp;q=banana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28322&amp;q=cherry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9142&amp;q=lemo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9145&amp;q=strawberry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76135&amp;q=orang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7808&amp;q=grapefrui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3636&amp;q=watermelo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9142&amp;q=lemo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5251&amp;q=peach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3998&amp;q=broccoli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20710&amp;q=carro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3968&amp;q=cabbag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4419&amp;q=zucchini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78086&amp;q=pickl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12817&amp;q=lettuc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64713&amp;q=oliv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0067&amp;q=eggplan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075039&amp;q=squid&amp;s=6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9145&amp;q=strawberry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11897&amp;q=turkey&amp;s=12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27180&amp;q=frog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776301&amp;q=lobst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4023915&amp;q=oyster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31236&amp;q=pork&amp;s=3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5268&amp;q=salmon&amp;s=1&amp;a=c&amp;cid=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schools.clipart.com/search/close-up?oid=3985237&amp;q=beef&amp;s=1&amp;a=c&amp;cid=&amp;fic=0&amp;k_mode=all&amp;k_exc=&amp;q_jpeg=1&amp;q_gif=1&amp;q_color=1&amp;q_eps=1&amp;q_wmf=1&amp;q_psd=1&amp;q_png=1&amp;date=&amp;pubid=&amp;isadv=1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139041&amp;q=cereal&amp;s=91&amp;a=c&amp;cid=&amp;fic=0&amp;k_mode=all&amp;k_exc=&amp;q_jpeg=1&amp;q_gif=1&amp;q_color=1&amp;q_eps=1&amp;q_wmf=1&amp;q_psd=1&amp;q_png=1&amp;date=&amp;pubid=&amp;isadv=1" TargetMode="External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4020642&amp;q=rice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76135&amp;q=orange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7808&amp;q=grapefruit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803636&amp;q=watermelon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schools.clipart.com/search/close-up?oid=3985251&amp;q=peach&amp;s=1&amp;a=c&amp;cid=&amp;k_mode=all&amp;k_exc=&amp;q_jpeg=1&amp;q_gif=1&amp;q_color=1&amp;q_bw=1&amp;q_eps=1&amp;q_wmf=1&amp;q_psd=1&amp;q_png=1&amp;date=&amp;pubid=&amp;isadv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nourritu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19520"/>
            <a:ext cx="36576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523880"/>
            <a:ext cx="146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600200"/>
            <a:ext cx="38862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128680"/>
            <a:ext cx="36576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22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00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125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51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09680" y="1600200"/>
            <a:ext cx="57150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752480"/>
            <a:ext cx="3267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648320" y="1600200"/>
            <a:ext cx="39621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676520" y="2133720"/>
            <a:ext cx="6095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914400" y="1676520"/>
            <a:ext cx="71629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9783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392360" cy="4714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274320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58579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600200"/>
            <a:ext cx="316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928960" y="2195640"/>
            <a:ext cx="3286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724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8672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ban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125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er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600200"/>
            <a:ext cx="316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i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ra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886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r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amplemou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pastè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7400" y="1752480"/>
            <a:ext cx="571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ê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broc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aro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19520"/>
            <a:ext cx="36576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urget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523880"/>
            <a:ext cx="1465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rnich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600200"/>
            <a:ext cx="38862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al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ol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2128680"/>
            <a:ext cx="36576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uber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ala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22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886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d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00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renou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51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hom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ui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09680" y="1600200"/>
            <a:ext cx="57150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1752480"/>
            <a:ext cx="3267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aum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ifteck / le st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2133720"/>
            <a:ext cx="6095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éré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1676520"/>
            <a:ext cx="71629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r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905120"/>
            <a:ext cx="39783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ayonnai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392360" cy="47149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0" y="274320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el et le poiv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58579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onfi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à la fraise / à la framboise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928960" y="2195640"/>
            <a:ext cx="32860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outar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7241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uc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8672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39621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57400" y="1752480"/>
            <a:ext cx="5715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3:02:36Z</dcterms:created>
  <dc:creator>mlcrossan</dc:creator>
  <dc:description/>
  <dc:language>en-US</dc:language>
  <cp:lastModifiedBy>mlcrossan</cp:lastModifiedBy>
  <dcterms:modified xsi:type="dcterms:W3CDTF">2009-09-28T19:16:52Z</dcterms:modified>
  <cp:revision>4</cp:revision>
  <dc:subject/>
  <dc:title>Slide 1</dc:title>
</cp:coreProperties>
</file>