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5.jpeg" ContentType="image/jpeg"/>
  <Override PartName="/ppt/media/image8.jpeg" ContentType="image/jpeg"/>
  <Override PartName="/ppt/media/image10.jpeg" ContentType="image/jpeg"/>
  <Override PartName="/ppt/media/image2.jpeg" ContentType="image/jpeg"/>
  <Override PartName="/ppt/media/image3.jpeg" ContentType="image/jpeg"/>
  <Override PartName="/ppt/media/jeop.wav" ContentType="audio/x-wav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6A8A-4405-4252-993B-8E9D08300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CA06-540B-46D9-B793-8ECC20D35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B068-37DA-475E-9437-8631AAD32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081C-55CE-4983-BCDE-3C7CFA9F2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651E7-F67A-4A4A-8544-1A86B3734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7A379-9FCA-418B-AA0D-12449B464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F2593-69C5-462B-A24A-597517775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E80B4-74F9-4DA3-9CF3-8A77F083C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CCE53-B539-4AFA-9965-125F17EA5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52B37-1DCC-4491-994F-C934680D3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ECC9F-10B6-44D1-B6C1-48AB3659E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A3A3-7C39-44B9-B35A-2D455B273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C7300-B1D1-4A3F-8AC7-C9A486808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5D5A9-E3F4-4D2E-BF09-10A138EBB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FD078-0F38-4047-BE09-A1E80AAC5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EA4E4-A212-4924-A12E-08A3EA43C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60DDC-5450-4F59-91BE-09DE6222B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C7D5-2BDD-409C-BF6B-9548F3BF8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F26F-0D1A-467E-B10A-D46243469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4958-D4C0-4107-85E1-ACAE47417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1EE6-ABB3-447F-AA24-D889FD170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5508-6628-422D-9B93-9F3429AD8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27CC-3E84-40F1-B981-288CA00D8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8981-B706-4702-9A47-A17E245B4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C0F98-D751-4E08-9180-15AFEB11F2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3224C-BE13-449D-BC06-3617ADF8FD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" Target="slide2.xml"/><Relationship Id="rId4" Type="http://schemas.openxmlformats.org/officeDocument/2006/relationships/slide" Target="slide4.xml"/><Relationship Id="rId5" Type="http://schemas.openxmlformats.org/officeDocument/2006/relationships/slide" Target="slide6.xml"/><Relationship Id="rId6" Type="http://schemas.openxmlformats.org/officeDocument/2006/relationships/slide" Target="slide8.xml"/><Relationship Id="rId7" Type="http://schemas.openxmlformats.org/officeDocument/2006/relationships/slide" Target="slide10.xml"/><Relationship Id="rId8" Type="http://schemas.openxmlformats.org/officeDocument/2006/relationships/slide" Target="slide12.xml"/><Relationship Id="rId9" Type="http://schemas.openxmlformats.org/officeDocument/2006/relationships/slide" Target="slide32.xml"/><Relationship Id="rId10" Type="http://schemas.openxmlformats.org/officeDocument/2006/relationships/slide" Target="slide22.xml"/><Relationship Id="rId11" Type="http://schemas.openxmlformats.org/officeDocument/2006/relationships/slide" Target="slide42.xml"/><Relationship Id="rId12" Type="http://schemas.openxmlformats.org/officeDocument/2006/relationships/slide" Target="slide14.xml"/><Relationship Id="rId13" Type="http://schemas.openxmlformats.org/officeDocument/2006/relationships/slide" Target="slide24.xml"/><Relationship Id="rId14" Type="http://schemas.openxmlformats.org/officeDocument/2006/relationships/slide" Target="slide34.xml"/><Relationship Id="rId15" Type="http://schemas.openxmlformats.org/officeDocument/2006/relationships/slide" Target="slide44.xml"/><Relationship Id="rId16" Type="http://schemas.openxmlformats.org/officeDocument/2006/relationships/slide" Target="slide16.xml"/><Relationship Id="rId17" Type="http://schemas.openxmlformats.org/officeDocument/2006/relationships/slide" Target="slide26.xml"/><Relationship Id="rId18" Type="http://schemas.openxmlformats.org/officeDocument/2006/relationships/slide" Target="slide36.xml"/><Relationship Id="rId19" Type="http://schemas.openxmlformats.org/officeDocument/2006/relationships/slide" Target="slide46.xml"/><Relationship Id="rId20" Type="http://schemas.openxmlformats.org/officeDocument/2006/relationships/slide" Target="slide18.xml"/><Relationship Id="rId21" Type="http://schemas.openxmlformats.org/officeDocument/2006/relationships/slide" Target="slide28.xml"/><Relationship Id="rId22" Type="http://schemas.openxmlformats.org/officeDocument/2006/relationships/slide" Target="slide38.xml"/><Relationship Id="rId23" Type="http://schemas.openxmlformats.org/officeDocument/2006/relationships/slide" Target="slide48.xml"/><Relationship Id="rId24" Type="http://schemas.openxmlformats.org/officeDocument/2006/relationships/slide" Target="slide20.xml"/><Relationship Id="rId25" Type="http://schemas.openxmlformats.org/officeDocument/2006/relationships/slide" Target="slide30.xml"/><Relationship Id="rId26" Type="http://schemas.openxmlformats.org/officeDocument/2006/relationships/slide" Target="slide40.xml"/><Relationship Id="rId27" Type="http://schemas.openxmlformats.org/officeDocument/2006/relationships/slide" Target="slide50.xml"/><Relationship Id="rId28" Type="http://schemas.openxmlformats.org/officeDocument/2006/relationships/slide" Target="slide52.xml"/><Relationship Id="rId29" Type="http://schemas.openxmlformats.org/officeDocument/2006/relationships/audio" Target="../media/jeop.wav"/><Relationship Id="rId3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hyperlink" Target="http://schools.clipart.com/search/close-up?oid=3934332&amp;q=chicken&amp;s=1&amp;a=c&amp;cid=&amp;k_mode=all&amp;k_exc=&amp;q_jpeg=1&amp;q_gif=1&amp;q_color=1&amp;q_eps=1&amp;q_wmf=1&amp;q_psd=1&amp;q_png=1&amp;date=&amp;pubid=&amp;isadv=1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hyperlink" Target="http://schools.clipart.com/search/close-up?oid=3840363&amp;q=escargot&amp;s=1&amp;a=c&amp;cid=&amp;k_mode=all&amp;k_exc=&amp;q_jpeg=1&amp;q_gif=1&amp;q_color=1&amp;q_eps=1&amp;q_wmf=1&amp;q_psd=1&amp;q_png=1&amp;date=&amp;pubid=&amp;isadv=1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1.xm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00"/>
                </a:solidFill>
                <a:latin typeface="Times New Roman"/>
              </a:rPr>
              <a:t>Jeopardy</a:t>
            </a:r>
            <a:endParaRPr b="0" lang="en-US" sz="80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762120" y="1533600"/>
          <a:ext cx="7775280" cy="4638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533600"/>
                    <a:ext cx="7775280" cy="463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990360" y="1523880"/>
            <a:ext cx="1148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 futu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362320" y="1523880"/>
            <a:ext cx="1447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ouloir / Pouvoi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6200" y="1523880"/>
            <a:ext cx="1589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 nourriture prendre boi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485320" y="1523880"/>
            <a:ext cx="133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tive v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/la/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932880" y="1523880"/>
            <a:ext cx="147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heter +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s magasi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402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3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00720" y="32418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4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00720" y="400356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5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00720" y="47656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6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00720" y="55278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7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51676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8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56488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9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0406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0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0124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1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51676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2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04064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3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56488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4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01244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5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1676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6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6468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7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54112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8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2440" y="40384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9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516760" y="47242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0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04064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1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6488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2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01244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3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51676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4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4064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5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56488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6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01244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7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770880" y="6324480"/>
            <a:ext cx="1986840" cy="45972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8" action="ppaction://hlinksldjump"/>
              </a:rPr>
              <a:t>Final Jeopar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jeo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1892520" y="3170160"/>
            <a:ext cx="417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ls / to buy some mil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1893240" y="3170160"/>
            <a:ext cx="437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ls vont acheter du lai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4960800" y="32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736640" y="172080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371600" y="220968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Je / to want / to swi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2974320" y="2514600"/>
            <a:ext cx="28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Je veux nage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676520" y="205740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u / to be able / to speak French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1061280" y="2795760"/>
            <a:ext cx="447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u peux parler le françai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1752480" y="2286000"/>
            <a:ext cx="65534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Vous / to be able / to work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1069920" y="1828800"/>
            <a:ext cx="445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ous pouvez travaille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5581800" y="3137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143000" y="2133720"/>
            <a:ext cx="541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ous / to want / to trave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449360" y="1832040"/>
            <a:ext cx="441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ous voulons voyage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892160" y="3170160"/>
            <a:ext cx="22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e / dan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76520" y="2286000"/>
            <a:ext cx="54100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ls / to want / to sing,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AI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ls / to </a:t>
            </a: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not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be able / to s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462600" y="2133720"/>
            <a:ext cx="81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ls veulent chanter, mais ils ne peuvent pa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029200" y="2133720"/>
            <a:ext cx="2362320" cy="234612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1509840" y="2587680"/>
            <a:ext cx="2311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es élèv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1893240" y="3168720"/>
            <a:ext cx="575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Les élèves prennent du poule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2438280" y="243828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3"/>
          <a:stretch/>
        </p:blipFill>
        <p:spPr>
          <a:xfrm>
            <a:off x="5334120" y="2133720"/>
            <a:ext cx="2305080" cy="33336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129320" y="2282760"/>
            <a:ext cx="383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a famille et moi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2133720" y="2162160"/>
            <a:ext cx="5136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a famille et moi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uvons de l’eau gazeus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76920" y="2819520"/>
            <a:ext cx="3429000" cy="228096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976680" y="2511360"/>
            <a:ext cx="3158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es amis et toi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1220760" y="2563920"/>
            <a:ext cx="4485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es amis et toi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renez des escargot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5562720" y="2819520"/>
            <a:ext cx="1892160" cy="192240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977400" y="2816280"/>
            <a:ext cx="404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’homme français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762120" y="2468520"/>
            <a:ext cx="4629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’homme français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rend de la grenouill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891080" y="3170160"/>
            <a:ext cx="381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ous allons danser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5638680" y="2286000"/>
            <a:ext cx="2257560" cy="333360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1434240" y="2435400"/>
            <a:ext cx="31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es Français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993960" y="2133720"/>
            <a:ext cx="563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Les Françaises boivent du vi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2057400" y="2057400"/>
            <a:ext cx="54864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ls détestent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_____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viande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ors, ils ne mangent pas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____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viand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991800" y="2438280"/>
            <a:ext cx="7549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ls détestent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la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viande.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lors, ils ne mangent pas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de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viand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2287440" y="2971800"/>
            <a:ext cx="29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209680" y="2133720"/>
            <a:ext cx="57913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ous aimons ____ croissants.  Alors, nous achetons ____ croissants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alheureusement, il n’y a pas ____ croissant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687240" y="2057400"/>
            <a:ext cx="75722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ous aimons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les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croissants.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lors, nous achetons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de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roissants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alheureusement,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l n’y a pas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de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croissant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3657600" y="2971800"/>
            <a:ext cx="127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828800" y="2362320"/>
            <a:ext cx="59436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Qu’est-ce que tu préfères 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____ brocoli, ____ tomates, ou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____ aubergin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1892160" y="3121200"/>
            <a:ext cx="569772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’est-ce que tu préfères :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le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brocoli,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les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tomates, ou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l’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ubergine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2820960" y="29718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286000" y="2590920"/>
            <a:ext cx="50292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s Américains ne prennent pas ____ escargots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ce qu’ils n’aiment pas ____ escargo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687240" y="2286000"/>
            <a:ext cx="814392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es Américains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e prennent pas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d’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scargots,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arce qu’ils n’aiment pas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les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escargot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892880" y="3168720"/>
            <a:ext cx="50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u  /  to drink some coffe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2059200" y="28954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375160" y="3233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981080" y="1828800"/>
            <a:ext cx="5257800" cy="40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’aime ____ pain et ____ confitu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rmalement, je prends ____ pain avec ____ confitu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’il n’y a pas ____ confiture, je prends ____ beurre et ____ suc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839520" y="2362320"/>
            <a:ext cx="68421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J’aime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le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pain et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la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confitur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ormalement, je prends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du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pain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vec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de la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confitur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’il n’y a pas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de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confiture,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je prends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du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beurre et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du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sucr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1889280" y="3317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219320" y="213372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3"/>
          <a:stretch/>
        </p:blipFill>
        <p:spPr>
          <a:xfrm>
            <a:off x="4114800" y="2133720"/>
            <a:ext cx="2254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918000" y="2209680"/>
            <a:ext cx="705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J’achète du poisson à la poissonneri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1889280" y="3317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52480" y="2209680"/>
            <a:ext cx="381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u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3"/>
          <a:stretch/>
        </p:blipFill>
        <p:spPr>
          <a:xfrm>
            <a:off x="4114800" y="2057400"/>
            <a:ext cx="289548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842760" y="2286000"/>
            <a:ext cx="729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ous achetons du yaourt à la crémeri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8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889280" y="3317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438280" y="228600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ri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3"/>
          <a:stretch/>
        </p:blipFill>
        <p:spPr>
          <a:xfrm>
            <a:off x="4724280" y="2438280"/>
            <a:ext cx="1897200" cy="22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916560" y="2590920"/>
            <a:ext cx="783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arius achète des raisins à l’épiceri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9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5346720" y="3440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828800" y="2514600"/>
            <a:ext cx="518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u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3"/>
          <a:stretch/>
        </p:blipFill>
        <p:spPr>
          <a:xfrm>
            <a:off x="3962520" y="2286000"/>
            <a:ext cx="2600280" cy="27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9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1893600" y="3168720"/>
            <a:ext cx="656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u achètes du b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œuf à la boucheri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1892160" y="3168720"/>
            <a:ext cx="402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u vas boire du café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30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1371600" y="2587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828800" y="1981080"/>
            <a:ext cx="533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ou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3"/>
          <a:stretch/>
        </p:blipFill>
        <p:spPr>
          <a:xfrm>
            <a:off x="4191120" y="2514600"/>
            <a:ext cx="333360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30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/>
          <p:nvPr/>
        </p:nvSpPr>
        <p:spPr>
          <a:xfrm>
            <a:off x="690840" y="2895480"/>
            <a:ext cx="816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ous achetez des saucisses à la charcuteri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Times New Roman"/>
              </a:rPr>
              <a:t>Final Jeopardy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10320" y="2438280"/>
            <a:ext cx="752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en greeting a friend in France,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 girl might make the following gestur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7467480" y="5867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restart="whenNotActive" nodeType="interactiveSeq" fill="hold">
                <p:stCondLst>
                  <p:cond evt="onClick">
                    <p:tgtEl>
                      <p:spTgt spid="309"/>
                    </p:tgtEl>
                  </p:cond>
                </p:stCondLst>
                <p:childTnLst>
                  <p:par>
                    <p:cTn id="67" fill="hold">
                      <p:stCondLst>
                        <p:cond evt="onClick">
                          <p:tgtEl>
                            <p:spTgt spid="309"/>
                          </p:tgtEl>
                        </p:cond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0" dur="1" fill="hold"/>
                                        <p:tgtEl>
                                          <p:spTgt spid="3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Times New Roman"/>
              </a:rPr>
              <a:t>Final Jeopardy Answer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500480" y="2766960"/>
            <a:ext cx="67446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aire la bise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Kiss each other on the cheek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1892160" y="3170160"/>
            <a:ext cx="429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Je / go to the museum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918000" y="2744640"/>
            <a:ext cx="427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Je vais aller au musé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891080" y="3168720"/>
            <a:ext cx="449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ous / to do homewor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1892880" y="3168720"/>
            <a:ext cx="526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ous allez faire les devoir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7T14:16:32Z</dcterms:created>
  <dc:creator>SCPS</dc:creator>
  <dc:description/>
  <dc:language>en-US</dc:language>
  <cp:lastModifiedBy>mlcrossan</cp:lastModifiedBy>
  <dcterms:modified xsi:type="dcterms:W3CDTF">2009-10-21T00:15:39Z</dcterms:modified>
  <cp:revision>23</cp:revision>
  <dc:subject/>
  <dc:title>Jeopardy</dc:title>
</cp:coreProperties>
</file>