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2.jpeg" ContentType="image/jpeg"/>
  <Override PartName="/ppt/media/image3.jpeg" ContentType="image/jpeg"/>
  <Override PartName="/ppt/media/jeop.wav" ContentType="audio/x-wav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5156-EB26-4C32-BD42-07C35BB47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FF86-4D42-463F-A6A6-A3BF8766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97A8-A8A2-4672-823D-AA720661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AC3E-3628-40E7-A9ED-13616BAA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7155-8465-424C-8677-69DBF282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4F34-A703-4D1B-860B-8B39B4B5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2275-206F-4313-A312-C7A9118C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6ED1-0361-4E91-BBC0-10A83B3D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52B8-5880-44F2-B334-CCA2B5E0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5BE9-D92D-460E-ADCF-550B29B1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EAAD-9CFC-4DFE-A624-00CDD800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588B-47A2-466F-AA54-2D8D06DC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63A8-56EB-4BC6-B77A-006F1830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FCBB-37B1-4A7D-AB4E-0339284D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AE00-D966-4BD6-B12F-7B98AAA1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CCC7-BA5E-4ADF-B1C7-D83D81BDE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ECAD-80E1-4C23-9248-03FEC845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7333-4757-4DA2-9408-A79E7F84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AC16-5ECA-4DC1-8DC5-9FF9C5EC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FCD3-1418-48BE-A7C7-D61AB0E6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7C95-6335-49DD-AC82-5937C0FF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9CE3-F717-4728-85E2-D8B5B4B7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728F-1795-4D1A-9ED8-C87D3848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03B7-B36B-4800-B67C-8AEFD3EF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44BE-461F-4FC2-8045-60CBD7BB38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2D83-2877-4DC9-8458-FECE9E442E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hyperlink" Target="http://schools.clipart.com/search/close-up?oid=3934332&amp;q=chicken&amp;s=1&amp;a=c&amp;cid=&amp;k_mode=all&amp;k_exc=&amp;q_jpeg=1&amp;q_gif=1&amp;q_color=1&amp;q_eps=1&amp;q_wmf=1&amp;q_psd=1&amp;q_png=1&amp;date=&amp;pubid=&amp;isadv=1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hyperlink" Target="http://schools.clipart.com/search/close-up?oid=3840363&amp;q=escargot&amp;s=1&amp;a=c&amp;cid=&amp;k_mode=all&amp;k_exc=&amp;q_jpeg=1&amp;q_gif=1&amp;q_color=1&amp;q_eps=1&amp;q_wmf=1&amp;q_psd=1&amp;q_png=1&amp;date=&amp;pubid=&amp;isadv=1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990360" y="1523880"/>
            <a:ext cx="114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futu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15238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uloir / Pouvo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6200" y="1523880"/>
            <a:ext cx="158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nourriture prendre boi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85320" y="1523880"/>
            <a:ext cx="13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tive 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/la/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32880" y="1523880"/>
            <a:ext cx="147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heter +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 magas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7088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892520" y="3170160"/>
            <a:ext cx="41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ls / to buy some mil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893240" y="3170160"/>
            <a:ext cx="437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ls vont acheter du la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960800" y="321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36640" y="17208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22096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e / to want / to swi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974320" y="251460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e veux nag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676520" y="20574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u / to be able / to speak Frenc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061280" y="2795760"/>
            <a:ext cx="447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 peux parler le frança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752480" y="2286000"/>
            <a:ext cx="6553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ous / to be able / to wor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069920" y="1828800"/>
            <a:ext cx="44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us pouvez travaill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581800" y="313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213372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us / to want / to tra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449360" y="1832040"/>
            <a:ext cx="441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us voulons voyag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892160" y="3170160"/>
            <a:ext cx="22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/ d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76520" y="2286000"/>
            <a:ext cx="5410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ls / to want / to sing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ls / to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be able / to s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62600" y="213372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ls veulent chanter, mais ils ne peuvent pa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2133720"/>
            <a:ext cx="2362320" cy="23461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09840" y="2587680"/>
            <a:ext cx="231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es élèv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893240" y="3168720"/>
            <a:ext cx="57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s élèves prennent du poule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438280" y="24382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5334120" y="2133720"/>
            <a:ext cx="2305080" cy="33336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129320" y="2282760"/>
            <a:ext cx="383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 famille et mo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133720" y="2162160"/>
            <a:ext cx="5136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 famille et mo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uvons de l’eau gazeu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2819520"/>
            <a:ext cx="3429000" cy="2280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976680" y="2511360"/>
            <a:ext cx="315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s amis et to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220760" y="2563920"/>
            <a:ext cx="448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s amis et to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nez des escargo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562720" y="2819520"/>
            <a:ext cx="1892160" cy="19224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977400" y="2816280"/>
            <a:ext cx="404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’homme françai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762120" y="2468520"/>
            <a:ext cx="462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’homme françai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nd de la grenouil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891080" y="3170160"/>
            <a:ext cx="38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us allons danser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638680" y="2286000"/>
            <a:ext cx="2257560" cy="33336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434240" y="2435400"/>
            <a:ext cx="31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es Françai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993960" y="2133720"/>
            <a:ext cx="56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s Françaises boivent du v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057400" y="2057400"/>
            <a:ext cx="5486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ls détestent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_____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iande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ors, ils ne mangent pa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____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ian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991800" y="2438280"/>
            <a:ext cx="754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ls détestent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a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viande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ors, ils ne mangent pas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viand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287440" y="297180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09680" y="2133720"/>
            <a:ext cx="5791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us aimons ____ croissants.  Alors, nous achetons ____ croissant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lheureusement, il n’y a pas ____ croissan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87240" y="2057400"/>
            <a:ext cx="7572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us aimons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croissants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ors, nous achetons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roissant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lheureusement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l n’y a pas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croissan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657600" y="2971800"/>
            <a:ext cx="127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28800" y="2362320"/>
            <a:ext cx="5943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’est-ce que tu préfères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 brocoli, ____ tomates, o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 aubergin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892160" y="3121200"/>
            <a:ext cx="56977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’est-ce que tu préfères :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brocoli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tomates, ou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ubergin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2820960" y="29718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0" y="2590920"/>
            <a:ext cx="50292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 Américains ne prennent pas ____ escargot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ce qu’ils n’aiment pas ____ escargo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87240" y="2286000"/>
            <a:ext cx="81439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es Américain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e prennent pas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’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scargots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rce qu’ils n’aiment pas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escargo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892880" y="3168720"/>
            <a:ext cx="50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u  /  to drink some coffe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059200" y="2895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75160" y="323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1828800"/>
            <a:ext cx="52578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’aime ____ pain et ____ confi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ement, je prends ____ pain avec ____ confi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’il n’y a pas ____ confiture, je prends ____ beurre et ____ suc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839520" y="2362320"/>
            <a:ext cx="684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’aime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pain et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a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confitur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rmalement, je prends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u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pai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vec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 la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confitur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’il n’y a pas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confiture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e prends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u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beurre et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u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sucr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21337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4114800" y="2133720"/>
            <a:ext cx="2254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918000" y="2209680"/>
            <a:ext cx="705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’achète du poisson à la poissonneri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52480" y="220968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u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4114800" y="205740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842760" y="2286000"/>
            <a:ext cx="729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us achetons du yaourt à la crémeri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438280" y="22860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i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4724280" y="2438280"/>
            <a:ext cx="189720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916560" y="2590920"/>
            <a:ext cx="783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rius achète des raisins à l’épiceri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346720" y="344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828800" y="25146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3962520" y="2286000"/>
            <a:ext cx="26002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893600" y="3168720"/>
            <a:ext cx="656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u achètes du b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œuf à la boucheri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92160" y="3168720"/>
            <a:ext cx="40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u vas boire du café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371600" y="2587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28800" y="19810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u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4191120" y="2514600"/>
            <a:ext cx="33336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690840" y="2895480"/>
            <a:ext cx="816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us achetez des saucisses à la charcuteri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0320" y="2438280"/>
            <a:ext cx="75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greeting a friend in France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girl might make the following gestu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00480" y="2766960"/>
            <a:ext cx="6744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ire la bis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ss each other on the chee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892160" y="3170160"/>
            <a:ext cx="42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Je / go to the museu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918000" y="2744640"/>
            <a:ext cx="427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e vais aller au musé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891080" y="3168720"/>
            <a:ext cx="449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us / to do homewor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892880" y="3168720"/>
            <a:ext cx="526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us allez faire les devoi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mlcrossan</cp:lastModifiedBy>
  <dcterms:modified xsi:type="dcterms:W3CDTF">2009-10-21T00:15:39Z</dcterms:modified>
  <cp:revision>23</cp:revision>
  <dc:subject/>
  <dc:title>Jeopardy</dc:title>
</cp:coreProperties>
</file>