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69FD-F7A0-43A8-829D-2471A2A83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F0BA-16BB-4402-A9F4-90365954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D3D6-C960-47E5-9D6A-852298A97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8B46-16FB-498D-8812-0B65F4B6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68FE-27BA-4300-8999-AF6D01E5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2136-B0FC-4015-91EE-AC6AA674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E001-04C5-4FD3-9910-C1DF9032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4F21-DED8-46B1-B73A-05D28990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4D32-0BEF-4619-9454-CA472FED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2798-0274-47B7-A439-0619BE7F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00D4-B703-4CB7-BF46-C077C3FD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A864-E331-4B4E-9D90-7C50A3E0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3EB7-D581-42B6-8310-4C21DB419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media-cdn.tripadvisor.com/media/photo-s/01/04/8f/95/jardin-des-tuileries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aris.site-touristique.com/images/paris/photo/photo-musee-louvre-20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world-city-photos.org/Paris/paris_notre_dame/Paris_Notre_Dame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3.bp.blogspot.com/_kPQORoSiReM/Sb9MIiwjRqI/AAAAAAAAAHg/PqgvKX-ZBcw/s400/luxembourg2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lobal-journeys.com/Images/Chateau%20de%20Versailles%201%20Large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cluas.com/indie-music/Portals/0/Blog/Files/5/857/perelachaise1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homepage.ntlworld.com/c.fuller1/images/stce_73.jpg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i.ehow.com/images/GlobalPhoto/Articles/4601286/1005210-main_Full.jpg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9/9a/Metro-Paris-Rame-MP-73-Lign.jpg/800px-Metro-Paris-Rame-MP-73-Lign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datalocker.files.wordpress.com/2009/06/dona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iscoverfrance.com/catalog/images/eiffel-tower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visitingdc.com/images/arc-de-triomphe-pictur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ichelet-vanves.ac-versailles.fr/discipline/arts_plastiques/images/liens/paris-musee-d-orsay-musee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yartprints.co.uk/kunst/auguste_rodin_625/thinker_le_penseur_hi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uniglobecarefreetravel.files.wordpress.com/2009/07/sacrecoeur5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1/Place_de_la_concorde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Où aller à Par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jardin des Tuil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1828800"/>
            <a:ext cx="616896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Musée du Louv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771560"/>
            <a:ext cx="662616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athédra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e Notre-D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1371600"/>
            <a:ext cx="3619440" cy="51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jardin du Luxembou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1828800"/>
            <a:ext cx="609588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Inval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d Napoléon est mort, il a été enterré aux Inva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See full size image"/>
          <p:cNvPicPr/>
          <p:nvPr/>
        </p:nvPicPr>
        <p:blipFill>
          <a:blip r:embed="rId1"/>
          <a:stretch/>
        </p:blipFill>
        <p:spPr>
          <a:xfrm>
            <a:off x="380880" y="1523880"/>
            <a:ext cx="3772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Gare du N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y a quatre gares importantes à Paris.  En France, beaucoup de personnes voyagent en tr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See full size image"/>
          <p:cNvPicPr/>
          <p:nvPr/>
        </p:nvPicPr>
        <p:blipFill>
          <a:blip r:embed="rId1"/>
          <a:stretch/>
        </p:blipFill>
        <p:spPr>
          <a:xfrm>
            <a:off x="304920" y="2592360"/>
            <a:ext cx="434340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hâteau de Versail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roi et la reine, Louis XVI et Marie-Antoinette, ont habité au château de Versailles quand la révolution a commencé en 178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438280"/>
            <a:ext cx="449568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imetière du Père Lacha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y a beaucoup de personnes célèbres enterrées au cimetière du Père Lachaise.  Par exemple, la tombe de Jim Morrison se trouve i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2573280"/>
            <a:ext cx="441972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47920" y="1676520"/>
            <a:ext cx="654984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t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1600200"/>
            <a:ext cx="777240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’aéroport internationale –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les de Gaul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See full size image"/>
          <p:cNvPicPr/>
          <p:nvPr/>
        </p:nvPicPr>
        <p:blipFill>
          <a:blip r:embed="rId1"/>
          <a:stretch/>
        </p:blipFill>
        <p:spPr>
          <a:xfrm>
            <a:off x="1752480" y="1828800"/>
            <a:ext cx="563904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mé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vais en métro quand je voyage entre les endroits à Par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666880"/>
            <a:ext cx="449568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av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600200"/>
            <a:ext cx="662616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à pi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je vais de l’Arc de Triomphe au Musée du Louvre, je vais à pi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See full size image"/>
          <p:cNvPicPr/>
          <p:nvPr/>
        </p:nvPicPr>
        <p:blipFill>
          <a:blip r:embed="rId1"/>
          <a:stretch/>
        </p:blipFill>
        <p:spPr>
          <a:xfrm>
            <a:off x="457200" y="1600200"/>
            <a:ext cx="284148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bat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5530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Tour Eiff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1371600"/>
            <a:ext cx="3771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Arc de Triomp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1542960"/>
            <a:ext cx="685800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Galéries Lafaye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See full size image"/>
          <p:cNvPicPr/>
          <p:nvPr/>
        </p:nvPicPr>
        <p:blipFill>
          <a:blip r:embed="rId1"/>
          <a:stretch/>
        </p:blipFill>
        <p:spPr>
          <a:xfrm>
            <a:off x="1600200" y="2133720"/>
            <a:ext cx="609588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Musée d’Ors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ù on trouve de l’art impressioni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 Go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2286000"/>
            <a:ext cx="47214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Musée Rod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 musée où on trouve beaucoup d’ouvrages de l’artiste Rod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447920"/>
            <a:ext cx="36370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cre-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 à Monmar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belle église qui se trouve à Monmar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martre est un quartier où il y a beaucoup d’artis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600200"/>
            <a:ext cx="3878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Place de la Conco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y a un grand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bélis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à la Place de la Concor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438280"/>
            <a:ext cx="464796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6:19:14Z</dcterms:created>
  <dc:creator>mlcrossan</dc:creator>
  <dc:description/>
  <dc:language>en-US</dc:language>
  <cp:lastModifiedBy>mlcrossan</cp:lastModifiedBy>
  <dcterms:modified xsi:type="dcterms:W3CDTF">2009-11-11T20:28:50Z</dcterms:modified>
  <cp:revision>4</cp:revision>
  <dc:subject/>
  <dc:title>Slide 1</dc:title>
</cp:coreProperties>
</file>