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C6C-6464-43BB-8981-FB60D088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F02-66F2-4308-856A-217A74C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492-2BD4-431C-BEF1-3ECBC2F7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360-F90B-4D80-8FE9-6DF3898A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8DE-D127-4A13-8824-C0F3713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0F0-F9B5-4FEF-9151-8AB78E2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05A-D579-49AA-907C-3D544602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679-1D43-4A96-947C-BE609EF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AA5-6327-464A-954A-14E1ADF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BC9-7B71-4D28-99B4-3E812EC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639-27A3-4C0A-931D-C188132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0D1-3432-4CB5-ADDB-66A33C5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FDDD-E117-434E-9357-3C2CD0B95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s-libres.fr/wp-content/uploads/blogger/blogger/5915/1917/1024/Avion-air-france-a-charles-de-gaulle-0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ld-city-photos.org/Paris/paris_notre_dame/Paris_Notre_Da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3.bp.blogspot.com/_kPQORoSiReM/Sb9MIiwjRqI/AAAAAAAAAHg/PqgvKX-ZBcw/s400/luxembourg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oulofamerica.com/soagalleries/paris/shops/Par_Galeries_Lafayett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niglobecarefreetravel.files.wordpress.com/2009/07/sacrecoeur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noramio.com/photos/original/942939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uas.com/indie-music/Portals/0/Blog/Files/5/857/perelachais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omepage.ntlworld.com/c.fuller1/images/stce_7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.ehow.com/images/GlobalPhoto/Articles/4601286/1005210-main_Full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9/9a/Metro-Paris-Rame-MP-73-Lign.jpg/800px-Metro-Paris-Rame-MP-73-Lig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france.com/catalog/images/eiffel-tow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atalocker.files.wordpress.com/2009/06/don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trendycrew.s3.amazonaws.com/paris-fwaw2009-shoes-bag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discoverfrance.com/catalog/images/eiffel-tower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niglobecarefreetravel.files.wordpress.com/2009/07/sacrecoeur5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kevdo.com/photo-galleries/paris/Images/Les_Invalides___Napoleon_Buried_Here.jpg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myartprints.co.uk/kunst/auguste_rodin_625/thinker_le_penseur_hi.jpg" TargetMode="External"/><Relationship Id="rId10" Type="http://schemas.openxmlformats.org/officeDocument/2006/relationships/image" Target="../media/image4.jpeg"/><Relationship Id="rId11" Type="http://schemas.openxmlformats.org/officeDocument/2006/relationships/hyperlink" Target="http://www.michelet-vanves.ac-versailles.fr/discipline/arts_plastiques/images/liens/paris-musee-d-orsay-musee.jpg" TargetMode="External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2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evdo.com/photo-galleries/paris/Images/Les_Invalides___Napoleon_Buried_He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yartprints.co.uk/kunst/auguste_rodin_625/thinker_le_penseur_h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elet-vanves.ac-versailles.fr/discipline/arts_plastiques/images/liens/paris-musee-d-orsay-muse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sitingdc.com/images/arc-de-triomphe-pictu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Place_de_la_concord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-cdn.tripadvisor.com/media/photo-s/01/04/8f/95/jardin-des-tuileri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aris.site-touristique.com/images/paris/photo/photo-musee-louvre-2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28800"/>
            <a:ext cx="5639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371600"/>
            <a:ext cx="36194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095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6095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qui se trouve à Monmar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martre est un quartier où il y a 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878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quatre gares importantes à Paris.  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59236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i et la reine, __________________________________, ont habité au château de Versailles quand _________________ a commencé en 17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y a beaucoup de ________________ enterrées au cimetière du Père Lachaise.  Par exemple, la tombe de _______________ se trouve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73280"/>
            <a:ext cx="4419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676520"/>
            <a:ext cx="65498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600200"/>
            <a:ext cx="7772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en métro quand je voyage entre les endroits à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6261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je vais de l’Arc de Triomphe au Musée du Louvre, je vais à p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2841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049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002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27672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51055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05320" y="1676520"/>
            <a:ext cx="108576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0" y="380880"/>
            <a:ext cx="1447920" cy="109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See full size image"/>
          <p:cNvPicPr/>
          <p:nvPr/>
        </p:nvPicPr>
        <p:blipFill>
          <a:blip r:embed="rId13"/>
          <a:stretch/>
        </p:blipFill>
        <p:spPr>
          <a:xfrm>
            <a:off x="3200400" y="5105520"/>
            <a:ext cx="1905120" cy="138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See full size image"/>
          <p:cNvPicPr/>
          <p:nvPr/>
        </p:nvPicPr>
        <p:blipFill>
          <a:blip r:embed="rId14"/>
          <a:stretch/>
        </p:blipFill>
        <p:spPr>
          <a:xfrm>
            <a:off x="1981080" y="3505320"/>
            <a:ext cx="1905120" cy="143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See full size image"/>
          <p:cNvPicPr/>
          <p:nvPr/>
        </p:nvPicPr>
        <p:blipFill>
          <a:blip r:embed="rId15"/>
          <a:stretch/>
        </p:blipFill>
        <p:spPr>
          <a:xfrm>
            <a:off x="4191120" y="3505320"/>
            <a:ext cx="2057400" cy="141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See full size image"/>
          <p:cNvPicPr/>
          <p:nvPr/>
        </p:nvPicPr>
        <p:blipFill>
          <a:blip r:embed="rId16"/>
          <a:stretch/>
        </p:blipFill>
        <p:spPr>
          <a:xfrm>
            <a:off x="5791320" y="1600200"/>
            <a:ext cx="1218960" cy="174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See full size image"/>
          <p:cNvPicPr/>
          <p:nvPr/>
        </p:nvPicPr>
        <p:blipFill>
          <a:blip r:embed="rId17"/>
          <a:stretch/>
        </p:blipFill>
        <p:spPr>
          <a:xfrm>
            <a:off x="6629400" y="5257800"/>
            <a:ext cx="1905120" cy="134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ee full size image"/>
          <p:cNvPicPr/>
          <p:nvPr/>
        </p:nvPicPr>
        <p:blipFill>
          <a:blip r:embed="rId18"/>
          <a:stretch/>
        </p:blipFill>
        <p:spPr>
          <a:xfrm>
            <a:off x="6477120" y="3429000"/>
            <a:ext cx="2057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i                            Je va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685800"/>
          <a:ext cx="4038480" cy="5439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bor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it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ès________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n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648320" y="13716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 partenaire     Il va… / Elle v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685800"/>
          <a:ext cx="4038480" cy="5439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bor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it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ès________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n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8320" y="13716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___________ est mort, il a été _______________ aux Inva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3637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0"/>
            <a:ext cx="47214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42960"/>
            <a:ext cx="6858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_________________ à la Place de la Conc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168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71560"/>
            <a:ext cx="6626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19:14Z</dcterms:created>
  <dc:creator>mlcrossan</dc:creator>
  <dc:description/>
  <dc:language>en-US</dc:language>
  <cp:lastModifiedBy>mlcrossan</cp:lastModifiedBy>
  <dcterms:modified xsi:type="dcterms:W3CDTF">2009-11-09T20:34:40Z</dcterms:modified>
  <cp:revision>5</cp:revision>
  <dc:subject/>
  <dc:title>Slide 1</dc:title>
</cp:coreProperties>
</file>