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7D7-7EE1-467E-AC1E-9D274257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591-D6E1-4EC6-9E53-AD49944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149-143E-4307-9A08-E5CAF67B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ED9-4066-405E-BF06-B70B7963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337-48E2-4F8D-B95C-6DC0DCA2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706-FEC2-4F11-B91B-5F3F7A1E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6E6-539E-45F8-89E6-3743E8CF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C3F-F6F4-412D-9A5C-C95C7AE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737-2655-471F-9474-1A9BD62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DED-E77E-4926-BEFD-D6F663A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4DA-1D7C-4CF0-9359-52525D45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C1A-4402-4EFE-901D-57B60C55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D421-56BE-4CC8-A79A-68CACC997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s-libres.fr/wp-content/uploads/blogger/blogger/5915/1917/1024/Avion-air-france-a-charles-de-gaulle-0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ulofamerica.com/soagalleries/paris/shops/Par_Galeries_Lafayett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noramio.com/photos/original/942939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trendycrew.s3.amazonaws.com/paris-fwaw2009-shoes-bag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discoverfrance.com/catalog/images/eiffel-tower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niglobecarefreetravel.files.wordpress.com/2009/07/sacrecoeur5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kevdo.com/photo-galleries/paris/Images/Les_Invalides___Napoleon_Buried_Here.jpg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myartprints.co.uk/kunst/auguste_rodin_625/thinker_le_penseur_hi.jpg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http://www.michelet-vanves.ac-versailles.fr/discipline/arts_plastiques/images/liens/paris-musee-d-orsay-musee.jpg" TargetMode="External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2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evdo.com/photo-galleries/paris/Images/Les_Invalides___Napoleon_Buried_He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__________________________________, ont habité au château de Versailles quand _________________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a beaucoup de ________________ enterrées au cimetière du Père Lachaise.  Par exemple, la tombe de _______________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049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002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27672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51055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05320" y="1676520"/>
            <a:ext cx="108576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0" y="380880"/>
            <a:ext cx="144792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See full size image"/>
          <p:cNvPicPr/>
          <p:nvPr/>
        </p:nvPicPr>
        <p:blipFill>
          <a:blip r:embed="rId13"/>
          <a:stretch/>
        </p:blipFill>
        <p:spPr>
          <a:xfrm>
            <a:off x="3200400" y="5105520"/>
            <a:ext cx="1905120" cy="138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See full size image"/>
          <p:cNvPicPr/>
          <p:nvPr/>
        </p:nvPicPr>
        <p:blipFill>
          <a:blip r:embed="rId14"/>
          <a:stretch/>
        </p:blipFill>
        <p:spPr>
          <a:xfrm>
            <a:off x="1981080" y="3505320"/>
            <a:ext cx="1905120" cy="143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See full size image"/>
          <p:cNvPicPr/>
          <p:nvPr/>
        </p:nvPicPr>
        <p:blipFill>
          <a:blip r:embed="rId15"/>
          <a:stretch/>
        </p:blipFill>
        <p:spPr>
          <a:xfrm>
            <a:off x="4191120" y="3505320"/>
            <a:ext cx="2057400" cy="141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See full size image"/>
          <p:cNvPicPr/>
          <p:nvPr/>
        </p:nvPicPr>
        <p:blipFill>
          <a:blip r:embed="rId16"/>
          <a:stretch/>
        </p:blipFill>
        <p:spPr>
          <a:xfrm>
            <a:off x="5791320" y="1600200"/>
            <a:ext cx="1218960" cy="174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See full size image"/>
          <p:cNvPicPr/>
          <p:nvPr/>
        </p:nvPicPr>
        <p:blipFill>
          <a:blip r:embed="rId17"/>
          <a:stretch/>
        </p:blipFill>
        <p:spPr>
          <a:xfrm>
            <a:off x="6629400" y="5257800"/>
            <a:ext cx="1905120" cy="134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ee full size image"/>
          <p:cNvPicPr/>
          <p:nvPr/>
        </p:nvPicPr>
        <p:blipFill>
          <a:blip r:embed="rId18"/>
          <a:stretch/>
        </p:blipFill>
        <p:spPr>
          <a:xfrm>
            <a:off x="6477120" y="3429000"/>
            <a:ext cx="2057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i                            Je va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 partenaire     Il va… / Elle v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___________ est mort, il a été _______________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_________________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09T20:34:40Z</dcterms:modified>
  <cp:revision>5</cp:revision>
  <dc:subject/>
  <dc:title>Slide 1</dc:title>
</cp:coreProperties>
</file>