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C72-DBD4-4A1C-A201-DF77D741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B6C-E139-43F9-9DCA-D48F0A4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B5B-4226-4E66-9615-DB7BE2B1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5ED-7C82-4EA2-AB95-A94C46BC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63C-4EA6-4B15-9C26-EB2645C7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679-AE41-4AE4-AA8D-5D5E3C08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A3C-CB37-4F07-97AA-49C39BCC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BBF-94F1-4988-917A-83013D4C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8C0-2881-476F-ABA1-3D8BF83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64BF-2450-4D9C-A72A-02369BA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861-0105-4AA5-86AD-8FE5F146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D92-76A9-4B0D-9B36-C0A320D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2583-3B29-4C91-92CF-2B95E5ED3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ù aller à Pa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es Tuil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u Lo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thédr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 Notre-D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u Luxembo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Inv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Napoléon est mort, il a été enterré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See full size image"/>
          <p:cNvPicPr/>
          <p:nvPr/>
        </p:nvPicPr>
        <p:blipFill>
          <a:blip r:embed="rId1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En France, beaucoup de personnes voyagent en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See full size image"/>
          <p:cNvPicPr/>
          <p:nvPr/>
        </p:nvPicPr>
        <p:blipFill>
          <a:blip r:embed="rId1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Louis XVI et Marie-Antoinette, ont habité au château de Versailles quand la révolution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metière du Père Lach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beaucoup de personnes célèbres enterrées au cimetière du Père Lachaise.  Par exemple, la tombe de Jim Morrison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aéroport internationale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de Gau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/>
          <p:cNvPicPr/>
          <p:nvPr/>
        </p:nvPicPr>
        <p:blipFill>
          <a:blip r:embed="rId1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é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av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1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our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c de Triomp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Galéries Lafay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’Or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on trouve de l’art impression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Ro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musée où on trouve beaucoup d’ouvrages de l’artiste Ro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e-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 à Monmar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belle église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beaucoup d’arti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ce de la Con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un grand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élis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11T20:28:50Z</dcterms:modified>
  <cp:revision>4</cp:revision>
  <dc:subject/>
  <dc:title>Slide 1</dc:title>
</cp:coreProperties>
</file>