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A1E-6C67-4A85-A052-9119677E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C4B-BB14-4D8E-9E2E-BEF99521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627-BF58-4778-9B3C-70C6539C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167D-1868-4EEC-B137-891612FD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930B-A71F-4551-9F3F-90C47367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75B-F444-4EA3-BA87-CF2CF2D8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3089-DAF0-4DBF-86ED-64F4B45A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4B3-2A70-436E-9A83-2BD20643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F13F-1604-49C3-A56F-8CCC2403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15A-9D5D-4C52-A4B1-33D7E289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E57-64DA-48C9-B1C4-5DE6A3E3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5EF-521A-4477-9681-2C107246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F91F-68FC-4B5F-8798-3740F0112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 se prononce-t-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 or 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loup-garo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. Hibou dit coucou au dessous du ch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 a fait trop chaud à Pa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mba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ber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b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taux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ouco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auberg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roux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austèr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houcho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audac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3:18:26Z</dcterms:created>
  <dc:creator>mlcrossan</dc:creator>
  <dc:description/>
  <dc:language>en-US</dc:language>
  <cp:lastModifiedBy>mlcrossan</cp:lastModifiedBy>
  <dcterms:modified xsi:type="dcterms:W3CDTF">2009-09-14T15:33:43Z</dcterms:modified>
  <cp:revision>2</cp:revision>
  <dc:subject/>
  <dc:title>Comment se prononce-t-il?</dc:title>
</cp:coreProperties>
</file>