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FC6-41AB-4DF1-9591-CC14031F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E97-ED4B-43B6-80EF-EBABFA5C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4FE-95DF-405F-85DF-9BF1AFBC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5B3-75F2-467E-ADBE-5F5AFA14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11B-6B12-4841-A129-D49C8E1B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D3F-11B0-4A0A-B650-5C4DA98C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78D-5F01-4216-95AC-BB542C43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089-0CC6-493C-BFDD-FE01C97F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1AA-BFFF-4FDC-BC3D-57391D94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A49-AEF1-4BB4-AADF-1A85E907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108-3365-4EE3-8235-9A65128A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94A-4D28-47CD-AF41-543EA19E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7006-4BA5-4351-8274-209C5A8FA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e prononce-t-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hic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emin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érie! Cherche tes chaussettes au rez-de-chauss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éo et Thomas ont une théorie sur le thème de l’his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vache crache sur le chemin à gauch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co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â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âc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rache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o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acun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Thoma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éri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thès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1:10:56Z</dcterms:created>
  <dc:creator>mlcrossan</dc:creator>
  <dc:description/>
  <dc:language>en-US</dc:language>
  <cp:lastModifiedBy>mlcrossan</cp:lastModifiedBy>
  <dcterms:modified xsi:type="dcterms:W3CDTF">2009-09-06T21:24:23Z</dcterms:modified>
  <cp:revision>2</cp:revision>
  <dc:subject/>
  <dc:title>Comment se prononce-t-il?</dc:title>
</cp:coreProperties>
</file>