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F671-7276-4DD3-B001-73C58AFFF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7905-4A62-4B19-B051-83B189821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532D-C8E9-4A87-8628-B0BBA26B3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BCA5-D13A-4F73-8A40-534E4DCB1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E4A6-C8EC-41E4-9E13-1B47B4779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083B-20D0-42C2-AD36-9C3E41296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1F7F-40E6-40EF-9BFB-32173DEE1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4605-96DC-4996-9EAE-1F57C9921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55AD-5DD0-40C1-A6CF-B680650D7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ACF8-42F0-4374-B2C8-9D3E9DA7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1885-E91E-4DDC-B20E-F9991332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0233-7932-4F14-9146-ECA50CEFA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BFAB0-4F4C-4924-AC34-FB93050D69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ent se prononce-t-i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 or 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loup-garou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. Hibou dit coucou au dessous du ch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l a fait trop chaud à Pau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mba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berg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lo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b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taux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coucou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auberg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roux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austèr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chouchou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audac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3:18:26Z</dcterms:created>
  <dc:creator>mlcrossan</dc:creator>
  <dc:description/>
  <dc:language>en-US</dc:language>
  <cp:lastModifiedBy>mlcrossan</cp:lastModifiedBy>
  <dcterms:modified xsi:type="dcterms:W3CDTF">2009-09-14T15:33:43Z</dcterms:modified>
  <cp:revision>2</cp:revision>
  <dc:subject/>
  <dc:title>Comment se prononce-t-il?</dc:title>
</cp:coreProperties>
</file>