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1EA-090D-406E-AF3A-99273768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792-81A5-4303-80DA-70C11734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7ED-6672-4958-BFD9-C3FA6615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F9E-933B-4349-A93A-66785B50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9F6-E64C-48D1-BDB7-5668D846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F59-4438-47CC-AE92-618C8B92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705-0009-47C8-92B7-6BF50627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BB5-FAEE-4663-8CB5-A667FCF4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C25-4441-4DEA-93C0-45B9B8C6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EB75-80D4-4CDF-B74F-8EA06410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5254-6FDA-4BF1-ABAD-CAA5DD7F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C92-707B-4676-BB37-1904C64B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42A8-A746-4730-9E7B-BB408A1C5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 se prononce-t-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 or 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loup-garo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. Hibou dit coucou au dessous du ch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 a fait trop chaud à Pa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mba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ber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b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taux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ouco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auberg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roux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austèr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houchou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audac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3:18:26Z</dcterms:created>
  <dc:creator>mlcrossan</dc:creator>
  <dc:description/>
  <dc:language>en-US</dc:language>
  <cp:lastModifiedBy>mlcrossan</cp:lastModifiedBy>
  <dcterms:modified xsi:type="dcterms:W3CDTF">2009-09-14T15:33:43Z</dcterms:modified>
  <cp:revision>2</cp:revision>
  <dc:subject/>
  <dc:title>Comment se prononce-t-il?</dc:title>
</cp:coreProperties>
</file>