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2E2-28C9-4486-946E-0CAF1BDC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AB6-1B09-4E62-A702-33EF6486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8AE-F223-496E-B67E-212A9E0F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46D-8299-4175-AE8C-16B2278F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433-51AD-47D7-AA46-44609302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26D-0650-49C4-B24B-939D92D5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C5C-4CB3-4FB5-98A9-50D57A83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FC5-726B-4E94-952E-43B3243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68C-F2AB-4891-9DA4-12B9228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CFE-2F62-4B38-8970-A96D1B7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2A5-0F7B-4BA0-9D83-3D290976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209-3929-4A35-9F3F-A6AC944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15C7-A165-4D2C-AA73-3A7FF044A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prononce-t-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hic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emi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érie! Cherche tes chaussettes au rez-de-chauss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éo et Thomas ont une théorie sur le thème de l’his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vache crache sur le chemin à gauch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co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â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âc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rach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o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acu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Thoma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éri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è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1:10:56Z</dcterms:created>
  <dc:creator>mlcrossan</dc:creator>
  <dc:description/>
  <dc:language>en-US</dc:language>
  <cp:lastModifiedBy>mlcrossan</cp:lastModifiedBy>
  <dcterms:modified xsi:type="dcterms:W3CDTF">2009-09-06T21:24:23Z</dcterms:modified>
  <cp:revision>2</cp:revision>
  <dc:subject/>
  <dc:title>Comment se prononce-t-il?</dc:title>
</cp:coreProperties>
</file>