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51B-9655-489D-A2E8-4968A1EA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A31-9E87-41E2-976A-550546E3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5F7-76A3-4AE5-97FD-EA68533F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8A4-8259-44EF-BB66-A226D395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0D0-C922-4DD6-9956-3D4CE808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34D-5DBD-47F7-89E7-6DDFF834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311-5B70-4D7D-999F-9D781307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178-C4B7-485F-ACD8-8E7BFD3A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392-A3E1-47EC-8E70-0FEA0B4B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28D-0B27-46F7-B379-474B123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08C-AF5F-41B8-8E09-D7AF4E91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B52-06CA-4307-9E27-7CFE3008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AC62-C207-4DD6-9BDA-1D9CBC6F7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e prononce-t-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hic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emin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érie! Cherche tes chaussettes au rez-de-chaussé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éo et Thomas ont une théorie sur le thème de l’his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vache crache sur le chemin à gauch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co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â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éo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âc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rache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o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acun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Thoma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chérir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thès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1:10:56Z</dcterms:created>
  <dc:creator>mlcrossan</dc:creator>
  <dc:description/>
  <dc:language>en-US</dc:language>
  <cp:lastModifiedBy>mlcrossan</cp:lastModifiedBy>
  <dcterms:modified xsi:type="dcterms:W3CDTF">2009-09-06T21:24:23Z</dcterms:modified>
  <cp:revision>2</cp:revision>
  <dc:subject/>
  <dc:title>Comment se prononce-t-il?</dc:title>
</cp:coreProperties>
</file>