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0546-DA35-4E7B-B627-4184080E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092-D849-44B1-8CB4-A1DD71A2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E3B-79D3-4649-91C4-894ED185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794-8645-4BFC-97A7-56635B90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1F2A-4A30-4C1E-B3FA-72F4D998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E9BA-B7B6-40D8-815E-E12266C5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E537-1761-41EA-909B-2EBFE0B6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71BE-0801-4492-B5CA-7EF6939D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49FE-4CD8-4EF9-A81B-DB8F3BA4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7AFC-F226-4567-AFA4-184947AD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C49B-141F-4E69-8825-F558C9C0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EE8-5999-4E0F-BB28-D2305B88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5F5C-78FD-4DDA-ACE0-85A57045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4F2D-1866-4D39-BA73-16ED7D92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F9EA-1F73-4531-B205-E50BFF75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1051-AF6F-42D4-BC90-0655C701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7B94-ED2C-43D6-9884-C0C6E9DE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FC3-397B-47DC-8D64-A8A6256B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F95-1A40-40CD-A74A-4ED0A46B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5D3-4E5D-4B9A-B8D0-6A438A43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0CD-E518-4706-8323-E3F10ED7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004-0000-44F0-82D9-A17381D3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FC4-B8CE-4E16-A51A-20472A1C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78F-50F8-4425-9181-A238312A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397B-7B75-428A-9238-8A469B1D1D9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C193-0C96-4ECB-A97E-265A884E615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43a1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liaison.shtm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nasals1.s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perche" TargetMode="External"/><Relationship Id="rId2" Type="http://schemas.openxmlformats.org/officeDocument/2006/relationships/hyperlink" Target="http://www.cslaval.qc.ca/fablesdelafontaine/dictionnaire.htm#perche" TargetMode="External"/><Relationship Id="rId3" Type="http://schemas.openxmlformats.org/officeDocument/2006/relationships/image" Target="../media/image3.wmf"/><Relationship Id="rId4" Type="http://schemas.openxmlformats.org/officeDocument/2006/relationships/hyperlink" Target="http://schools.clipart.com/search/close-up?oid=3713853&amp;q=crow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allecher" TargetMode="External"/><Relationship Id="rId2" Type="http://schemas.openxmlformats.org/officeDocument/2006/relationships/hyperlink" Target="http://www.cslaval.qc.ca/fablesdelafontaine/dictionnaire.htm#allecher" TargetMode="External"/><Relationship Id="rId3" Type="http://schemas.openxmlformats.org/officeDocument/2006/relationships/hyperlink" Target="http://www.cslaval.qc.ca/fablesdelafontaine/dictionnaire.htm#allecher" TargetMode="External"/><Relationship Id="rId4" Type="http://schemas.openxmlformats.org/officeDocument/2006/relationships/hyperlink" Target="http://www.cslaval.qc.ca/fablesdelafontaine/dictionnaire.htm#allecher" TargetMode="External"/><Relationship Id="rId5" Type="http://schemas.openxmlformats.org/officeDocument/2006/relationships/image" Target="../media/image5.wmf"/><Relationship Id="rId6" Type="http://schemas.openxmlformats.org/officeDocument/2006/relationships/hyperlink" Target="http://schools.clipart.com/search/close-up?oid=3954112&amp;q=fox&amp;s=1&amp;a=c&amp;cid=&amp;k_mode=all&amp;k_exc=&amp;q_jpeg=1&amp;q_gif=1&amp;q_color=1&amp;q_bw=1&amp;q_eps=1&amp;q_wmf=1&amp;q_psd=1&amp;q_png=1&amp;date=&amp;pubid=&amp;isadv=1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tint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6671&amp;q=fox%20%2Bcrow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ramage" TargetMode="External"/><Relationship Id="rId2" Type="http://schemas.openxmlformats.org/officeDocument/2006/relationships/hyperlink" Target="http://www.cslaval.qc.ca/fablesdelafontaine/dictionnaire.htm#ramage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phenix" TargetMode="External"/><Relationship Id="rId2" Type="http://schemas.openxmlformats.org/officeDocument/2006/relationships/hyperlink" Target="http://www.cslaval.qc.ca/fablesdelafontaine/dictionnaire.htm#phenix" TargetMode="External"/><Relationship Id="rId3" Type="http://schemas.openxmlformats.org/officeDocument/2006/relationships/hyperlink" Target="http://www.cslaval.qc.ca/fablesdelafontaine/dictionnaire.htm#phenix" TargetMode="External"/><Relationship Id="rId4" Type="http://schemas.openxmlformats.org/officeDocument/2006/relationships/hyperlink" Target="http://www.cslaval.qc.ca/fablesdelafontaine/dictionnaire.htm#hotes" TargetMode="External"/><Relationship Id="rId5" Type="http://schemas.openxmlformats.org/officeDocument/2006/relationships/hyperlink" Target="http://www.cslaval.qc.ca/fablesdelafontaine/dictionnaire.htm#hotes" TargetMode="External"/><Relationship Id="rId6" Type="http://schemas.openxmlformats.org/officeDocument/2006/relationships/hyperlink" Target="http://www.cslaval.qc.ca/fablesdelafontaine/dictionnaire.htm#hotes" TargetMode="External"/><Relationship Id="rId7" Type="http://schemas.openxmlformats.org/officeDocument/2006/relationships/hyperlink" Target="http://www.cslaval.qc.ca/fablesdelafontaine/dictionnaire.htm#hotes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saisit" TargetMode="Externa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flateur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depend" TargetMode="External"/><Relationship Id="rId2" Type="http://schemas.openxmlformats.org/officeDocument/2006/relationships/hyperlink" Target="http://www.cslaval.qc.ca/fablesdelafontaine/dictionnaire.htm#depend" TargetMode="External"/><Relationship Id="rId3" Type="http://schemas.openxmlformats.org/officeDocument/2006/relationships/hyperlink" Target="http://www.cslaval.qc.ca/fablesdelafontaine/dictionnaire.htm#depend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confu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ail_aille.s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r.s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oi.s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ch_th.s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eu.shtml" TargetMode="Externa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La liaiso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people like their word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l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La li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63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463"/>
                </a:solidFill>
                <a:latin typeface="Arial"/>
                <a:ea typeface="ＭＳ Ｐゴシック"/>
              </a:rPr>
              <a:t>Vous vous appel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463"/>
                </a:solidFill>
                <a:latin typeface="Arial"/>
                <a:ea typeface="ＭＳ Ｐゴシック"/>
              </a:rPr>
              <a:t>Ils a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63"/>
                </a:solidFill>
                <a:latin typeface="Arial"/>
              </a:rPr>
              <a:t>Essay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463"/>
                </a:solidFill>
                <a:latin typeface="Arial"/>
                <a:ea typeface="ＭＳ Ｐゴシック"/>
              </a:rPr>
              <a:t>Trois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463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écout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1599"/>
              </a:spcAft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Maître Corbeau, sur un arbre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perch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1599"/>
              </a:spcAft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Tenait en son bec un fromage.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495680" y="4343400"/>
            <a:ext cx="2819520" cy="149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4330800"/>
            <a:ext cx="281952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 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Maître Renard, par l'odeur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all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é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ch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4"/>
              </a:rPr>
              <a:t>é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,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035080" y="2514600"/>
            <a:ext cx="2232000" cy="254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81080" y="3772080"/>
            <a:ext cx="36576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Lui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 tint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 à peu près ce lang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"Hé ! bonjour, Monsieur du Corbeau.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790720"/>
            <a:ext cx="2852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Que vous êtes joli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que vous me semblez beau !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Sans mentir, si votre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r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Se rapporte à votre plumage,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Vous êtes le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Ph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é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nix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 des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4"/>
              </a:rPr>
              <a:t>h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5"/>
              </a:rPr>
              <a:t>ô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6"/>
              </a:rPr>
              <a:t>tes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de ces bois. "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e, é, è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y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è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A ces mots le Corbeau ne se sent pas de jo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Et pour montrer sa belle voi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2209680" cy="2095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743200" y="4952880"/>
            <a:ext cx="1625760" cy="1092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114800" y="2819520"/>
            <a:ext cx="20574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Il ouvre un large bec, laisse tomber sa pro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91120" y="5568840"/>
            <a:ext cx="838080" cy="517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4876920"/>
            <a:ext cx="3657600" cy="131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2514600"/>
            <a:ext cx="1542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Le Renard s'en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saisit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, et dit : "Mon bon Monsieur, 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14600" y="3530520"/>
            <a:ext cx="23623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Apprenez que tout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flatteur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Vit aux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d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é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pens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 de celui qui l'écoute :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Cette leçon vaut bien un fromage, sans dou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82640" y="340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14600" y="3530520"/>
            <a:ext cx="2362320" cy="1295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106240" y="37339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am! Mia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72200" y="4648320"/>
            <a:ext cx="1625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" Le Corbeau, honteux et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confus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,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Jura, mais un peu tard, qu'on ne l'y prendrait p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- ail, - aill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Écout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exe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y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i”, “ais”, “ait”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nds like a long “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aill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“r” does not sound like the English “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Écout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y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oi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Écout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y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h” &amp; “th”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Écout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y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é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eu”&amp;”eux”  / “euse”&amp;”euses”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r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y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y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ou” “oux”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lo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uf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l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4:36:58Z</dcterms:created>
  <dc:creator>Cecil County</dc:creator>
  <dc:description/>
  <dc:language>en-US</dc:language>
  <cp:lastModifiedBy>mlcrossan</cp:lastModifiedBy>
  <dcterms:modified xsi:type="dcterms:W3CDTF">2008-09-08T11:32:32Z</dcterms:modified>
  <cp:revision>10</cp:revision>
  <dc:subject/>
  <dc:title>http://www.bbc.co.uk/languages/french/lj/pronunciation/</dc:title>
</cp:coreProperties>
</file>