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CE7-F67A-4C62-85BE-A1FC8E18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2F8-4E8C-4FDF-BB0A-5B1C508C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C2D5-ADEB-4C20-B6D9-0DB715F2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71E-6ECD-4AD8-B921-6B945679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5AF9-73E5-4171-96F2-F0E72811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2CF2-CE3E-4169-8C9E-7C4307A5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6B6B-9064-4310-93AE-1AB36427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9FDB-1B1A-4EA5-81A9-CFC675EE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417A-142C-4D78-95F3-7E96815C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7C00-7EBA-4DEE-AF7F-0CC83179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4053-735C-4BD6-95EF-3299C6C3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8FD-C9BF-49F5-9453-A6C25308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B8B9-A061-4301-B425-622B05E0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0615-6298-4B6F-9BA4-50D074C4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1B87-7538-473E-B8A1-BF718EE6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E052-3946-42E3-8F86-5470D8B2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0477-E30E-475A-ABC8-A52C57C2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DD2-17F0-4064-94ED-7C748E63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C79-9C25-42C6-A399-5976A593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447-601D-4E0E-92A1-469BE989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855-EDA2-4F09-99E3-7AE862E3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764-1E3E-4203-8966-5EA484C7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666-C928-4F81-8A6E-DB2B960A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6B69-0809-4631-B236-3EC31D57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DA12-331D-4D80-98FD-FB25A2CCE42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C38E-CF50-4B50-A752-BC7BEE2EEF5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43a1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3a1b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bc.co.uk/languages/french/lj/pronunciation/liaison.shtml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bc.co.uk/languages/french/lj/pronunciation/nasals1.s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laval.qc.ca/fablesdelafontaine/dictionnaire.htm#perche" TargetMode="External"/><Relationship Id="rId2" Type="http://schemas.openxmlformats.org/officeDocument/2006/relationships/hyperlink" Target="http://www.cslaval.qc.ca/fablesdelafontaine/dictionnaire.htm#perche" TargetMode="External"/><Relationship Id="rId3" Type="http://schemas.openxmlformats.org/officeDocument/2006/relationships/image" Target="../media/image3.wmf"/><Relationship Id="rId4" Type="http://schemas.openxmlformats.org/officeDocument/2006/relationships/hyperlink" Target="http://schools.clipart.com/search/close-up?oid=3713853&amp;q=crow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slaval.qc.ca/fablesdelafontaine/dictionnaire.htm#allecher" TargetMode="External"/><Relationship Id="rId2" Type="http://schemas.openxmlformats.org/officeDocument/2006/relationships/hyperlink" Target="http://www.cslaval.qc.ca/fablesdelafontaine/dictionnaire.htm#allecher" TargetMode="External"/><Relationship Id="rId3" Type="http://schemas.openxmlformats.org/officeDocument/2006/relationships/hyperlink" Target="http://www.cslaval.qc.ca/fablesdelafontaine/dictionnaire.htm#allecher" TargetMode="External"/><Relationship Id="rId4" Type="http://schemas.openxmlformats.org/officeDocument/2006/relationships/hyperlink" Target="http://www.cslaval.qc.ca/fablesdelafontaine/dictionnaire.htm#allecher" TargetMode="External"/><Relationship Id="rId5" Type="http://schemas.openxmlformats.org/officeDocument/2006/relationships/image" Target="../media/image5.wmf"/><Relationship Id="rId6" Type="http://schemas.openxmlformats.org/officeDocument/2006/relationships/hyperlink" Target="http://schools.clipart.com/search/close-up?oid=3954112&amp;q=fox&amp;s=1&amp;a=c&amp;cid=&amp;k_mode=all&amp;k_exc=&amp;q_jpeg=1&amp;q_gif=1&amp;q_color=1&amp;q_bw=1&amp;q_eps=1&amp;q_wmf=1&amp;q_psd=1&amp;q_png=1&amp;date=&amp;pubid=&amp;isadv=1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slaval.qc.ca/fablesdelafontaine/dictionnaire.htm#tint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6671&amp;q=fox%20%2Bcrow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slaval.qc.ca/fablesdelafontaine/dictionnaire.htm#ramage" TargetMode="External"/><Relationship Id="rId2" Type="http://schemas.openxmlformats.org/officeDocument/2006/relationships/hyperlink" Target="http://www.cslaval.qc.ca/fablesdelafontaine/dictionnaire.htm#ramage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laval.qc.ca/fablesdelafontaine/dictionnaire.htm#phenix" TargetMode="External"/><Relationship Id="rId2" Type="http://schemas.openxmlformats.org/officeDocument/2006/relationships/hyperlink" Target="http://www.cslaval.qc.ca/fablesdelafontaine/dictionnaire.htm#phenix" TargetMode="External"/><Relationship Id="rId3" Type="http://schemas.openxmlformats.org/officeDocument/2006/relationships/hyperlink" Target="http://www.cslaval.qc.ca/fablesdelafontaine/dictionnaire.htm#phenix" TargetMode="External"/><Relationship Id="rId4" Type="http://schemas.openxmlformats.org/officeDocument/2006/relationships/hyperlink" Target="http://www.cslaval.qc.ca/fablesdelafontaine/dictionnaire.htm#hotes" TargetMode="External"/><Relationship Id="rId5" Type="http://schemas.openxmlformats.org/officeDocument/2006/relationships/hyperlink" Target="http://www.cslaval.qc.ca/fablesdelafontaine/dictionnaire.htm#hotes" TargetMode="External"/><Relationship Id="rId6" Type="http://schemas.openxmlformats.org/officeDocument/2006/relationships/hyperlink" Target="http://www.cslaval.qc.ca/fablesdelafontaine/dictionnaire.htm#hotes" TargetMode="External"/><Relationship Id="rId7" Type="http://schemas.openxmlformats.org/officeDocument/2006/relationships/hyperlink" Target="http://www.cslaval.qc.ca/fablesdelafontaine/dictionnaire.htm#hotes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slaval.qc.ca/fablesdelafontaine/dictionnaire.htm#saisit" TargetMode="Externa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cslaval.qc.ca/fablesdelafontaine/dictionnaire.htm#flateur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slaval.qc.ca/fablesdelafontaine/dictionnaire.htm#depend" TargetMode="External"/><Relationship Id="rId2" Type="http://schemas.openxmlformats.org/officeDocument/2006/relationships/hyperlink" Target="http://www.cslaval.qc.ca/fablesdelafontaine/dictionnaire.htm#depend" TargetMode="External"/><Relationship Id="rId3" Type="http://schemas.openxmlformats.org/officeDocument/2006/relationships/hyperlink" Target="http://www.cslaval.qc.ca/fablesdelafontaine/dictionnaire.htm#depend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slaval.qc.ca/fablesdelafontaine/dictionnaire.htm#confu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bc.co.uk/languages/french/lj/pronunciation/ail_aille.s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bc.co.uk/languages/french/lj/pronunciation/r.s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languages/french/lj/pronunciation/oi.s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bc.co.uk/languages/french/lj/pronunciation/ch_th.s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bc.co.uk/languages/french/lj/pronunciation/eu.shtml" TargetMode="Externa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La liaison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people like their words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lo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La li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463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463"/>
                </a:solidFill>
                <a:latin typeface="Arial"/>
                <a:ea typeface="ＭＳ Ｐゴシック"/>
              </a:rPr>
              <a:t>Vous vous appel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463"/>
                </a:solidFill>
                <a:latin typeface="Arial"/>
                <a:ea typeface="ＭＳ Ｐゴシック"/>
              </a:rPr>
              <a:t>Ils a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463"/>
                </a:solidFill>
                <a:latin typeface="Arial"/>
              </a:rPr>
              <a:t>Essay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463"/>
                </a:solidFill>
                <a:latin typeface="Arial"/>
                <a:ea typeface="ＭＳ Ｐゴシック"/>
              </a:rPr>
              <a:t>Trois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463"/>
                </a:solidFill>
                <a:latin typeface="Arial"/>
                <a:ea typeface="ＭＳ Ｐゴシック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écout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spcAft>
                <a:spcPts val="1599"/>
              </a:spcAft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Maître Corbeau, sur un arbre 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perch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spcAft>
                <a:spcPts val="1599"/>
              </a:spcAft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Tenait en son bec un fromage.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495680" y="4343400"/>
            <a:ext cx="2819520" cy="149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4330800"/>
            <a:ext cx="281952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 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Maître Renard, par l'odeur 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all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é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3"/>
              </a:rPr>
              <a:t>ch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4"/>
              </a:rPr>
              <a:t>é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,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035080" y="2514600"/>
            <a:ext cx="2232000" cy="254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981080" y="3772080"/>
            <a:ext cx="36576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Lui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 tint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 à peu près ce lang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"Hé ! bonjour, Monsieur du Corbeau.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2790720"/>
            <a:ext cx="2852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Que vous êtes joli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que vous me semblez beau !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Sans mentir, si votre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 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r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Se rapporte à votre plumage,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Vous êtes le 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Ph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é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3"/>
              </a:rPr>
              <a:t>nix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 des 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4"/>
              </a:rPr>
              <a:t>h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5"/>
              </a:rPr>
              <a:t>ô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6"/>
              </a:rPr>
              <a:t>tes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de ces bois. "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e, é, è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ay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lé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è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A ces mots le Corbeau ne se sent pas de jo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Et pour montrer sa belle voix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2209680" cy="2095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743200" y="4952880"/>
            <a:ext cx="1625760" cy="1092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114800" y="2819520"/>
            <a:ext cx="205740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Il ouvre un large bec, laisse tomber sa pro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191120" y="5568840"/>
            <a:ext cx="838080" cy="517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0880" y="4876920"/>
            <a:ext cx="3657600" cy="1314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943600" y="2514600"/>
            <a:ext cx="1542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Le Renard s'en 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saisit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, et dit : "Mon bon Monsieur, 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14600" y="3530520"/>
            <a:ext cx="23623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Apprenez que tout 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flatteur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Vit aux 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d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2"/>
              </a:rPr>
              <a:t>é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3"/>
              </a:rPr>
              <a:t>pens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 de celui qui l'écoute :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Cette leçon vaut bien un fromage, sans dou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82640" y="3403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14600" y="3530520"/>
            <a:ext cx="2362320" cy="1295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106240" y="37339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am! Mia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72200" y="4648320"/>
            <a:ext cx="1625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" Le Corbeau, honteux et </a:t>
            </a: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confus</a:t>
            </a: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,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62"/>
                </a:solidFill>
                <a:latin typeface="Arial"/>
              </a:rPr>
              <a:t>Jura, mais un peu tard, qu'on ne l'y prendrait p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- ail, - aille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Écout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 exe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ay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a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sa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ai”, “ais”, “ait”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nds like a long “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aill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“r” does not sound like the English “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Écout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ay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o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oi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Écout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ay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ch” &amp; “th”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Écout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ay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é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eu”&amp;”eux”  / “euse”&amp;”euses”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c0000"/>
                </a:solidFill>
                <a:uFillTx/>
                <a:latin typeface="Arial"/>
                <a:hlinkClick r:id="rId1"/>
              </a:rPr>
              <a:t>Écout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y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y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ur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out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y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y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ure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u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43a1b"/>
                </a:solidFill>
                <a:latin typeface="Arial"/>
              </a:rPr>
              <a:t>ou” “oux”</a:t>
            </a:r>
            <a:endParaRPr b="0" lang="en-US" sz="4400" spc="-1" strike="noStrike">
              <a:solidFill>
                <a:srgbClr val="343a1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out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lo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uf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a1b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out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43a1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l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04:36:58Z</dcterms:created>
  <dc:creator>Cecil County</dc:creator>
  <dc:description/>
  <dc:language>en-US</dc:language>
  <cp:lastModifiedBy>mlcrossan</cp:lastModifiedBy>
  <dcterms:modified xsi:type="dcterms:W3CDTF">2008-09-08T11:32:32Z</dcterms:modified>
  <cp:revision>10</cp:revision>
  <dc:subject/>
  <dc:title>http://www.bbc.co.uk/languages/french/lj/pronunciation/</dc:title>
</cp:coreProperties>
</file>