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85E-4D95-4379-97B0-B12007AD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4C3-BEA6-4838-9E47-5DCCBBC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E58-A8F8-4933-A8DB-6E6DFFB7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6D3-C34B-4FF5-8E46-88CBA415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902-32E7-473A-981E-9D965C81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ECD-3699-41C3-84AA-5079FFCB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7D3-D34D-452A-AFCB-BA758EFE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ED0-BFDF-4BBC-8514-152709D9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BE8-EB60-41D2-8339-6D10BAD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743-027F-445B-A2DA-68C95890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B43-83C9-45AA-A970-5C96631B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CA0-CF7A-4445-BE4C-1F5FD6C0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01B8-5685-4479-9402-046AA57A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image" Target="../media/image10.jpeg"/><Relationship Id="rId7" Type="http://schemas.openxmlformats.org/officeDocument/2006/relationships/image" Target="../media/image12.jpeg"/><Relationship Id="rId8" Type="http://schemas.openxmlformats.org/officeDocument/2006/relationships/image" Target="../media/image2.jpeg"/><Relationship Id="rId9" Type="http://schemas.openxmlformats.org/officeDocument/2006/relationships/image" Target="../media/image13.jpeg"/><Relationship Id="rId10" Type="http://schemas.openxmlformats.org/officeDocument/2006/relationships/image" Target="../media/image7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15.jpeg"/><Relationship Id="rId14" Type="http://schemas.openxmlformats.org/officeDocument/2006/relationships/image" Target="../media/image17.jpeg"/><Relationship Id="rId15" Type="http://schemas.openxmlformats.org/officeDocument/2006/relationships/image" Target="../media/image16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228600"/>
          <a:ext cx="8229600" cy="5897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 1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25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2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4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:3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0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50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45 a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15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10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00 p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sc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hi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i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571480" cy="243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333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dess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usiq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rts plas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33360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133056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stronom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1940040" cy="2038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158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éograph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hilo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219480" cy="33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295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re emploi du te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066680"/>
          <a:ext cx="8229600" cy="5059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a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n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h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h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h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jeu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h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h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717480" cy="743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731880" cy="74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685800" cy="6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114800" y="2895480"/>
            <a:ext cx="838080" cy="66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438280" y="5334120"/>
            <a:ext cx="630360" cy="742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286000" y="2819520"/>
            <a:ext cx="1066680" cy="615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191120" y="44956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7391520" y="4495680"/>
            <a:ext cx="914400" cy="747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467480" y="2819520"/>
            <a:ext cx="838440" cy="79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5867280" y="4419720"/>
            <a:ext cx="615960" cy="895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2438280" y="4572000"/>
            <a:ext cx="838440" cy="668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5715000" y="5334120"/>
            <a:ext cx="990720" cy="766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7620120" y="1676520"/>
            <a:ext cx="487080" cy="104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038480" y="5334120"/>
            <a:ext cx="990720" cy="780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4114800" y="1905120"/>
            <a:ext cx="838080" cy="81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5715000" y="2819520"/>
            <a:ext cx="914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1828800" cy="144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523880" cy="124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676160" cy="133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1447920" cy="111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315200" y="2514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15884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07200" y="4952880"/>
            <a:ext cx="1036800" cy="1505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1214280" cy="127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733920" y="4876920"/>
            <a:ext cx="1482480" cy="150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6934320" y="380880"/>
            <a:ext cx="1904760" cy="110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4267080" y="304920"/>
            <a:ext cx="1330560" cy="165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5627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1981080" y="495288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4343400" y="2590920"/>
            <a:ext cx="1082520" cy="1276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5"/>
          <a:stretch/>
        </p:blipFill>
        <p:spPr>
          <a:xfrm>
            <a:off x="5715000" y="2362320"/>
            <a:ext cx="771480" cy="165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6"/>
          <a:stretch/>
        </p:blipFill>
        <p:spPr>
          <a:xfrm>
            <a:off x="533520" y="48006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553080" y="1676520"/>
            <a:ext cx="121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1828800" cy="14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523880" cy="124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1676160" cy="133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209680" y="914400"/>
            <a:ext cx="144792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315200" y="251460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158840" cy="1200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107200" y="4952880"/>
            <a:ext cx="1036800" cy="1505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121428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3733920" y="4876920"/>
            <a:ext cx="1482480" cy="1504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6934320" y="380880"/>
            <a:ext cx="1904760" cy="11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4267080" y="304920"/>
            <a:ext cx="1330560" cy="165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55627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981080" y="495288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4343400" y="2590920"/>
            <a:ext cx="1082520" cy="1276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5"/>
          <a:stretch/>
        </p:blipFill>
        <p:spPr>
          <a:xfrm>
            <a:off x="5715000" y="2362320"/>
            <a:ext cx="771480" cy="165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6"/>
          <a:stretch/>
        </p:blipFill>
        <p:spPr>
          <a:xfrm>
            <a:off x="533520" y="4800600"/>
            <a:ext cx="1371600" cy="133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7"/>
          <a:stretch/>
        </p:blipFill>
        <p:spPr>
          <a:xfrm>
            <a:off x="6553080" y="1676520"/>
            <a:ext cx="121932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gl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950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8006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ll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3434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espag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91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ist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3336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lgèb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éom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1859040" cy="2190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48520" y="1676520"/>
            <a:ext cx="1197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53:45Z</dcterms:created>
  <dc:creator>mlcrossan</dc:creator>
  <dc:description/>
  <dc:language>en-US</dc:language>
  <cp:lastModifiedBy>mlcrossan</cp:lastModifiedBy>
  <dcterms:modified xsi:type="dcterms:W3CDTF">2009-09-09T19:36:43Z</dcterms:modified>
  <cp:revision>5</cp:revision>
  <dc:subject/>
  <dc:title>Slide 1</dc:title>
</cp:coreProperties>
</file>