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C21-A00F-41AF-9C30-E6511303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813-3E3A-4AFC-A6BA-0BFE6108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B7C-D1DB-4384-AE0C-5CA14A0E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CEF-6317-43DD-B30D-F1E5F109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311-A718-4809-9A53-E196B6D5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B20-0A04-46EC-8181-E6271F64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D02-281E-47B8-B89F-5C919C4F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964-30E7-4E6E-B23A-A831D512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925-24D8-4A0D-BCB1-73749970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957-E4A9-412A-81A0-23196C7B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F8D-4328-430A-91F2-5D5D8E23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B3F-118B-4B12-844D-EA4DA728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4246-8BC1-48FA-8036-D851B1854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image" Target="../media/image10.jpeg"/><Relationship Id="rId7" Type="http://schemas.openxmlformats.org/officeDocument/2006/relationships/image" Target="../media/image12.jpeg"/><Relationship Id="rId8" Type="http://schemas.openxmlformats.org/officeDocument/2006/relationships/image" Target="../media/image2.jpeg"/><Relationship Id="rId9" Type="http://schemas.openxmlformats.org/officeDocument/2006/relationships/image" Target="../media/image13.jpeg"/><Relationship Id="rId10" Type="http://schemas.openxmlformats.org/officeDocument/2006/relationships/image" Target="../media/image7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15.jpeg"/><Relationship Id="rId14" Type="http://schemas.openxmlformats.org/officeDocument/2006/relationships/image" Target="../media/image17.jpeg"/><Relationship Id="rId15" Type="http://schemas.openxmlformats.org/officeDocument/2006/relationships/image" Target="../media/image16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228600"/>
          <a:ext cx="8229600" cy="5897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 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5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0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 15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25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2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30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4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3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0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50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45 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15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sc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him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i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571480" cy="243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333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de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us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rts plas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333600" cy="1924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133056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astronom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é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i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1940040" cy="2038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158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éograph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hiloso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219480" cy="333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295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re emploi du tem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066680"/>
          <a:ext cx="8229600" cy="50594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n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h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h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h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h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717480" cy="743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43800" y="5334120"/>
            <a:ext cx="731880" cy="74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791320" y="1981080"/>
            <a:ext cx="685800" cy="6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114800" y="2895480"/>
            <a:ext cx="838080" cy="66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438280" y="5334120"/>
            <a:ext cx="630360" cy="742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286000" y="2819520"/>
            <a:ext cx="1066680" cy="615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4191120" y="44956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7391520" y="4495680"/>
            <a:ext cx="914400" cy="747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7467480" y="2819520"/>
            <a:ext cx="838440" cy="795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67280" y="4419720"/>
            <a:ext cx="615960" cy="895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2438280" y="4572000"/>
            <a:ext cx="838440" cy="668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5715000" y="5334120"/>
            <a:ext cx="990720" cy="766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7620120" y="1676520"/>
            <a:ext cx="487080" cy="104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4038480" y="5334120"/>
            <a:ext cx="990720" cy="780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4114800" y="1905120"/>
            <a:ext cx="838080" cy="814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>
            <a:off x="5715000" y="2819520"/>
            <a:ext cx="9144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1828800" cy="144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1523880" cy="124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1676160" cy="1336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1447920" cy="111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315200" y="251460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781680" y="4572000"/>
            <a:ext cx="115884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107200" y="4952880"/>
            <a:ext cx="1036800" cy="150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12142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733920" y="4876920"/>
            <a:ext cx="1482480" cy="150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6934320" y="380880"/>
            <a:ext cx="1904760" cy="1100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4267080" y="304920"/>
            <a:ext cx="1330560" cy="165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56272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1981080" y="495288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4343400" y="2590920"/>
            <a:ext cx="1082520" cy="1276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/>
          <a:stretch/>
        </p:blipFill>
        <p:spPr>
          <a:xfrm>
            <a:off x="5715000" y="2362320"/>
            <a:ext cx="771480" cy="1657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/>
          <a:stretch/>
        </p:blipFill>
        <p:spPr>
          <a:xfrm>
            <a:off x="533520" y="4800600"/>
            <a:ext cx="1371600" cy="133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6553080" y="1676520"/>
            <a:ext cx="1219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1828800" cy="1443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1523880" cy="1246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1676160" cy="133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144792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315200" y="251460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6781680" y="4572000"/>
            <a:ext cx="1158840" cy="1200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8107200" y="4952880"/>
            <a:ext cx="1036800" cy="1505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121428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3733920" y="4876920"/>
            <a:ext cx="1482480" cy="1504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6934320" y="380880"/>
            <a:ext cx="1904760" cy="11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4267080" y="304920"/>
            <a:ext cx="1330560" cy="165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556272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981080" y="495288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4343400" y="2590920"/>
            <a:ext cx="1082520" cy="127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5715000" y="2362320"/>
            <a:ext cx="771480" cy="165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>
            <a:off x="533520" y="4800600"/>
            <a:ext cx="1371600" cy="133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6553080" y="1676520"/>
            <a:ext cx="1219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ngl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9500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ranç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80060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ll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3434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espag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1911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is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3336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lgèb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éo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859040" cy="219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48520" y="1676520"/>
            <a:ext cx="1197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1:53:45Z</dcterms:created>
  <dc:creator>mlcrossan</dc:creator>
  <dc:description/>
  <dc:language>en-US</dc:language>
  <cp:lastModifiedBy>mlcrossan</cp:lastModifiedBy>
  <dcterms:modified xsi:type="dcterms:W3CDTF">2009-09-09T19:36:43Z</dcterms:modified>
  <cp:revision>5</cp:revision>
  <dc:subject/>
  <dc:title>Slide 1</dc:title>
</cp:coreProperties>
</file>