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5D1-89E3-4811-9325-7AC5759B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5DE-D960-44BC-B459-5AEB4CE9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980-6640-45B4-AE0F-83C62DBE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5CA-C081-45A2-A483-E95CE4D0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B63-12C2-4D5B-BD74-ECD10C50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F8C-67DE-45D4-ADA4-2EEB3F57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473-2E73-4F93-A232-455B3BA4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3E9-D20F-4754-8406-1BA97E24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1D2-3799-46DC-9E15-872ACC89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B65-7380-41CD-86E9-E9ADE3DA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CF1-781A-4C7E-BD7A-A24A6543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B73-67FB-4580-87B3-DAF0F298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5913-016A-4218-BA82-C941FD209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10.jpeg"/><Relationship Id="rId7" Type="http://schemas.openxmlformats.org/officeDocument/2006/relationships/image" Target="../media/image12.jpeg"/><Relationship Id="rId8" Type="http://schemas.openxmlformats.org/officeDocument/2006/relationships/image" Target="../media/image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15.jpeg"/><Relationship Id="rId14" Type="http://schemas.openxmlformats.org/officeDocument/2006/relationships/image" Target="../media/image17.jpeg"/><Relationship Id="rId15" Type="http://schemas.openxmlformats.org/officeDocument/2006/relationships/image" Target="../media/image16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228600"/>
          <a:ext cx="8229600" cy="5897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5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 15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25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2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4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3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5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45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15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sc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hi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i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571480" cy="243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333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de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us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rts plas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3360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133056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astrono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é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1940040" cy="2038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158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éograph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hiloso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19480" cy="33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295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re emploi du tem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066680"/>
          <a:ext cx="8229600" cy="5059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n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h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h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717480" cy="743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43800" y="5334120"/>
            <a:ext cx="731880" cy="74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91320" y="1981080"/>
            <a:ext cx="685800" cy="6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114800" y="2895480"/>
            <a:ext cx="838080" cy="66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438280" y="5334120"/>
            <a:ext cx="630360" cy="742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286000" y="2819520"/>
            <a:ext cx="1066680" cy="615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7391520" y="449568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7467480" y="2819520"/>
            <a:ext cx="838440" cy="795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67280" y="4419720"/>
            <a:ext cx="615960" cy="895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2438280" y="4572000"/>
            <a:ext cx="838440" cy="668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5715000" y="5334120"/>
            <a:ext cx="990720" cy="766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7620120" y="1676520"/>
            <a:ext cx="487080" cy="104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4038480" y="5334120"/>
            <a:ext cx="990720" cy="780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4114800" y="1905120"/>
            <a:ext cx="838080" cy="814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5715000" y="2819520"/>
            <a:ext cx="9144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1828800" cy="144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523880" cy="124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1676160" cy="1336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1447920" cy="111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315200" y="2514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15884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107200" y="4952880"/>
            <a:ext cx="1036800" cy="150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12142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733920" y="4876920"/>
            <a:ext cx="1482480" cy="150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934320" y="380880"/>
            <a:ext cx="1904760" cy="1100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4267080" y="304920"/>
            <a:ext cx="1330560" cy="165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56272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1981080" y="495288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4343400" y="2590920"/>
            <a:ext cx="1082520" cy="1276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5715000" y="2362320"/>
            <a:ext cx="771480" cy="165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533520" y="480060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553080" y="1676520"/>
            <a:ext cx="1219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1828800" cy="144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523880" cy="124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1676160" cy="133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144792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315200" y="2514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158840" cy="1200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107200" y="4952880"/>
            <a:ext cx="1036800" cy="1505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121428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733920" y="4876920"/>
            <a:ext cx="1482480" cy="150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6934320" y="380880"/>
            <a:ext cx="1904760" cy="11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4267080" y="304920"/>
            <a:ext cx="1330560" cy="165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556272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981080" y="495288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4343400" y="2590920"/>
            <a:ext cx="1082520" cy="127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5715000" y="2362320"/>
            <a:ext cx="771480" cy="165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533520" y="480060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6553080" y="1676520"/>
            <a:ext cx="1219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ngl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950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anç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8006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ll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3434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espag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191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is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3336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lgèb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é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859040" cy="219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1197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1:53:45Z</dcterms:created>
  <dc:creator>mlcrossan</dc:creator>
  <dc:description/>
  <dc:language>en-US</dc:language>
  <cp:lastModifiedBy>mlcrossan</cp:lastModifiedBy>
  <dcterms:modified xsi:type="dcterms:W3CDTF">2009-09-09T19:36:43Z</dcterms:modified>
  <cp:revision>5</cp:revision>
  <dc:subject/>
  <dc:title>Slide 1</dc:title>
</cp:coreProperties>
</file>