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14F-75FC-4F89-AB5C-AD3BD2E8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E4F-A958-4636-9657-EE707A3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3BE-256B-47E5-A3F5-9C64E0B0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534-BC10-43F7-BE80-83CC85ED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71B-F511-4E32-A8EC-A79F8AEF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C22-2EB8-471D-849B-C220644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9FA-59BC-4461-B17A-CD2938BE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951-D14F-4205-8736-965E01FB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DB3-38FE-472E-A379-9EB1D5D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FB2-F890-47CC-B71B-E7951F6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DBC-370A-4C62-9E83-2F2023DA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C59-8A21-41B0-AEBC-061BC4A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D2C1-DF71-4F2F-9F0F-A3C909F0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______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______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______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______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______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______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______ conduire une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______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10-03-18T17:56:24Z</dcterms:modified>
  <cp:revision>7</cp:revision>
  <dc:subject/>
  <dc:title>Slide 1</dc:title>
</cp:coreProperties>
</file>