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DFF-4A7D-43D0-BEDC-73754448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957-406F-473D-9EA6-515605A2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307-1CB5-4D42-B261-E34901BF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0D6-614D-4DD1-8B74-94F85AB4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2D1B-7B23-4E68-B633-3ABC3184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BDD-8718-4BA4-8B49-629745E3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DDB-1D61-4681-82A4-EDA0E5F3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AC36-F2DD-4BE9-8145-5958C906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1F1-5E3E-4229-96E2-05FEE760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C7F-0279-4975-B581-BB41EA93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6D5-3019-41D2-AC4C-70C90A2E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B82-BB74-467E-A8BB-0649ABF7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5CA3-6EC0-4E83-BCC8-C59D3DE32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0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uloir et Pou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y a une grande dif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33960" cy="1619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1819440" cy="2266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962520" y="457200"/>
            <a:ext cx="2070000" cy="274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133720" y="2362320"/>
            <a:ext cx="1839960" cy="1904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315200" y="228600"/>
            <a:ext cx="1351080" cy="196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010280" y="4419720"/>
            <a:ext cx="1665360" cy="2038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095880" y="2362320"/>
            <a:ext cx="1743120" cy="1809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3886200" y="3581280"/>
            <a:ext cx="19321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veux dans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e ne peux p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veux jouer au bas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heureus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ne peux pa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s la jambe cassé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1825560" cy="18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8762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as veut nag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il ne peut p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fait froi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333600" cy="208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2895480"/>
            <a:ext cx="33336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voulons parler frança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pouvons parler français quand nous sommes diligents en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809880" cy="318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52880" y="990720"/>
            <a:ext cx="37339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pouvez faire les devoi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vous ne voulez p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333360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3336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e et Jeanne veulent conduire un voitu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elles ne peuvent pas.  Elles ont 10 a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2743200"/>
            <a:ext cx="3209760" cy="3333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uloir - ______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Pouvoir -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uloir - ______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Pouvoir -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oul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n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oul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eu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ou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n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ou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eu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8:37:06Z</dcterms:created>
  <dc:creator>mlcrossan</dc:creator>
  <dc:description/>
  <dc:language>en-US</dc:language>
  <cp:lastModifiedBy>mlcrossan</cp:lastModifiedBy>
  <dcterms:modified xsi:type="dcterms:W3CDTF">2009-10-18T00:20:08Z</dcterms:modified>
  <cp:revision>5</cp:revision>
  <dc:subject/>
  <dc:title>Slide 1</dc:title>
</cp:coreProperties>
</file>