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B0C7-342C-4BEE-BEBF-40BDB892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3BF-1BDE-45E1-B8C5-7FF4CAC4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B66-32C7-454C-8341-86B5D9C5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4B2-26FD-4DC5-93BE-4A9F948E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21C-BA50-43A1-BFB9-64C383CA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2E9-E547-4AC2-A4CD-51F0E64C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A5E-158A-4C83-AD62-2F6D488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716-97F9-4E3C-BDD0-92E091A8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96C-4535-4898-9D95-584CA406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443-D7F8-4A90-8E26-AB48E58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6DC-2286-423A-8C40-FD807E9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A63-3820-42BB-B77B-ABF3BCAF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1AF2-56E2-4255-AD4D-3B3393138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0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loir et Pou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une grande dif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33960" cy="16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181944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18399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135108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6536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095880" y="236232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86200" y="3581280"/>
            <a:ext cx="19321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______ dans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e ne ______ p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______ jouer au bas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heureus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ne ______ p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 la jambe cassé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825560" cy="18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876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as ______ nag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il ne ______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33360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333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______ parler frança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______ parler français quand nous sommes diligents en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80988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733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______ faire les devoi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vous ne ______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33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et Jeanne ______ conduire une voi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elles ne ______ pas.  Elles ont 10 a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09760" cy="333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37:06Z</dcterms:created>
  <dc:creator>mlcrossan</dc:creator>
  <dc:description/>
  <dc:language>en-US</dc:language>
  <cp:lastModifiedBy>mlcrossan</cp:lastModifiedBy>
  <dcterms:modified xsi:type="dcterms:W3CDTF">2010-03-18T17:56:24Z</dcterms:modified>
  <cp:revision>7</cp:revision>
  <dc:subject/>
  <dc:title>Slide 1</dc:title>
</cp:coreProperties>
</file>