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A18-BC94-4EE4-A23C-6642CB12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205-2F8C-498A-A987-FA3208A6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974C-A9B2-4C17-BF2D-5F6C9AC9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CE5-4D77-4F3F-8F75-D57A6E1B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0BF-D79F-4D73-8742-60F807CE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A54-64B2-418A-BC84-21585C94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8A7-841B-45AB-B74F-4B80FBD7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560-FE2F-4C81-8090-77BAD611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BB89-B3E2-4E87-BE98-DDA4FC9E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E6A-0B6E-4DC9-941B-503A18E6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EC1D-98FD-46CE-8881-2849AAB3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FF3-DB25-4EEA-82F5-55AA010B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23C4-77EE-4E2A-98F8-BE9AAF070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0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uloir et Pou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y a une grande dif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33960" cy="1619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1819440" cy="2266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962520" y="457200"/>
            <a:ext cx="2070000" cy="274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133720" y="2362320"/>
            <a:ext cx="1839960" cy="1904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315200" y="228600"/>
            <a:ext cx="1351080" cy="196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010280" y="4419720"/>
            <a:ext cx="1665360" cy="2038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095880" y="2362320"/>
            <a:ext cx="1743120" cy="1809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3886200" y="3581280"/>
            <a:ext cx="19321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______ dans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e ne ______ p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______ jouer au bas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heureus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ne ______ pa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s la jambe cassé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1825560" cy="18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8762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as ______ nag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il ne ______ p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fait froi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333600" cy="208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2895480"/>
            <a:ext cx="33336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______ parler frança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______ parler français quand nous sommes diligents en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809880" cy="318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52880" y="990720"/>
            <a:ext cx="37339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______ faire les devoi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vous ne ______ p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333360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3336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e et Jeanne ______ conduire une voitu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elles ne ______ pas.  Elles ont 10 a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2743200"/>
            <a:ext cx="3209760" cy="3333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uloir - ______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Pouvoir -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uloir - ______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Pouvoir -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oul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n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oul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eu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ou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n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ou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eu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8:37:06Z</dcterms:created>
  <dc:creator>mlcrossan</dc:creator>
  <dc:description/>
  <dc:language>en-US</dc:language>
  <cp:lastModifiedBy>mlcrossan</cp:lastModifiedBy>
  <dcterms:modified xsi:type="dcterms:W3CDTF">2010-03-18T17:56:24Z</dcterms:modified>
  <cp:revision>7</cp:revision>
  <dc:subject/>
  <dc:title>Slide 1</dc:title>
</cp:coreProperties>
</file>