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0CFE-0D13-47EB-9098-BA7F9341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B877-2326-49E0-A251-EC3FE945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87A2-82C0-4645-8027-2D3537FD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E323-353F-4A96-AB29-3FBF7458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5B1-1B99-48F8-817F-9DD52575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24FE-5AD2-4EAA-82B0-CB3EDFCA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4926-108C-4844-9B01-B459E172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B283-56E9-495C-BA37-12865625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677-7336-4CD3-A2F1-5D538599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E39-F3B5-4EE5-85BB-B07CB331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085-3D00-4CFF-BD02-E7C69920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5C48-89C1-4D92-9306-0C5025C4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BB53-F064-4465-88B0-40D500002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0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uloir et Pou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y a une grande dif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333960" cy="1619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1819440" cy="2266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962520" y="457200"/>
            <a:ext cx="2070000" cy="2743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133720" y="2362320"/>
            <a:ext cx="1839960" cy="1904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315200" y="228600"/>
            <a:ext cx="1351080" cy="1962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7010280" y="4419720"/>
            <a:ext cx="1665360" cy="2038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095880" y="2362320"/>
            <a:ext cx="1743120" cy="1809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3886200" y="3581280"/>
            <a:ext cx="19321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veux dans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e ne peux p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veux jouer au bas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heureuse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ne peux pa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s la jambe cassé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1825560" cy="1814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8762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as veut nag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il ne peut p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fait froi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333600" cy="2085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2895480"/>
            <a:ext cx="33336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voulons parler frança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pouvons parler français quand nous sommes diligents en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809880" cy="318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52880" y="990720"/>
            <a:ext cx="37339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pouvez faire les devoi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vous ne voulez p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333360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33336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e et Jeanne veulent conduire un voitu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elles ne peuvent pas.  Elles ont 10 a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05520" y="2743200"/>
            <a:ext cx="3209760" cy="3333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uloir - ______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Pouvoir -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uloir - ______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Pouvoir -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oul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n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oul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eu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ou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n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ou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eu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8:37:06Z</dcterms:created>
  <dc:creator>mlcrossan</dc:creator>
  <dc:description/>
  <dc:language>en-US</dc:language>
  <cp:lastModifiedBy>mlcrossan</cp:lastModifiedBy>
  <dcterms:modified xsi:type="dcterms:W3CDTF">2009-10-18T00:20:08Z</dcterms:modified>
  <cp:revision>5</cp:revision>
  <dc:subject/>
  <dc:title>Slide 1</dc:title>
</cp:coreProperties>
</file>