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18FF-D573-418D-9871-93C66CD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093-7C81-40C5-99B4-EBA9739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9BD-569A-4067-94E8-B2E657E8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E5A-E853-4348-89CF-F6F5AE52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AC0-2DA2-49EE-B620-C8403347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3BC-57DB-4EE6-88BA-DD2EAAC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F74-0C49-43C6-8147-5728D10D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A02-3BE5-4EB3-B171-BA0F10A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F4E-F7C9-4082-A430-383B0EAE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DA3-B512-484D-8437-2145B623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B19-58CA-4C76-BC33-44EC5B69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A11-E79B-4814-80A2-41F96FFC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FF5D-E3DF-4DC8-8CA8-834B6C964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0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uloir et Pou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une grande dif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3396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1819440" cy="2266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962520" y="457200"/>
            <a:ext cx="2070000" cy="27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133720" y="2362320"/>
            <a:ext cx="1839960" cy="1904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315200" y="228600"/>
            <a:ext cx="1351080" cy="196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66536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095880" y="2362320"/>
            <a:ext cx="17431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3886200" y="3581280"/>
            <a:ext cx="19321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veux dans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je ne peux p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veux jouer au bas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heureusemen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ne peux pa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as la jambe cassé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1825560" cy="18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8762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as veut nag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il ne peut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fait froi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333600" cy="208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3333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voulons parler franç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pouvons parler français quand nous sommes diligents en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809880" cy="318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52880" y="990720"/>
            <a:ext cx="3733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pouvez faire les devoi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vous ne voulez p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3336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3336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et Jeanne veulent conduire un voitu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 elles ne peuvent pas.  Elles ont 10 a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05520" y="2743200"/>
            <a:ext cx="3209760" cy="3333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uloir - ______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Pouvoir -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oul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l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on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us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ouv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/ Elle / On 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s / El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peu</a:t>
                      </a:r>
                      <a:r>
                        <a:rPr b="0" lang="en-US" sz="28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37:06Z</dcterms:created>
  <dc:creator>mlcrossan</dc:creator>
  <dc:description/>
  <dc:language>en-US</dc:language>
  <cp:lastModifiedBy>mlcrossan</cp:lastModifiedBy>
  <dcterms:modified xsi:type="dcterms:W3CDTF">2009-10-18T00:20:08Z</dcterms:modified>
  <cp:revision>5</cp:revision>
  <dc:subject/>
  <dc:title>Slide 1</dc:title>
</cp:coreProperties>
</file>